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914400"/>
            <a:ext cx="84582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453360"/>
            <a:ext cx="1584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uni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79640" y="6453360"/>
            <a:ext cx="518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84360" y="2852640"/>
            <a:ext cx="43196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381720"/>
            <a:ext cx="720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9C1-0A35-4F8F-A8C5-B48720A7E277}" type="slidenum">
              <a:rPr b="1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84320"/>
            <a:ext cx="8480160" cy="652320"/>
            <a:chOff x="468360" y="184320"/>
            <a:chExt cx="8480160" cy="6523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468360" y="184320"/>
              <a:ext cx="5799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040400" y="189000"/>
              <a:ext cx="7908120" cy="64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fl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                      Support Center Frankfu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Amt für Lehrerbildung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Günther Käberich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69800" y="190440"/>
            <a:ext cx="604800" cy="6526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184464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ädagogisch-technische Anforderungen an eine schulische IT-Strukt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07160" y="11253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kales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1317960" cy="1861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1442880" cy="186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11120" y="299736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17920" y="11253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 brauchen/wollen kein 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844640"/>
            <a:ext cx="821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Arbeit in einem Netzwerk mehr Wissen erford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hr Support benötig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 teure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zelarbeitsplätze völlig ausr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80560" y="112536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 brauchen/wollen ein 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44640"/>
            <a:ext cx="878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und Daten zentral gespeichert wer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pheriegeräte (Drucker, …) gemeinsam genutzt wer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-s über das Netzwerk zentral gespeichert wer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e Computer im Netzwerk das Internet nutz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Installation von Software vereinfacht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s Verteilen und Einsammeln von Daten erheblich einfache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60480" y="112536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uchen (wollen) wir ein Netzwe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2920" y="18446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it (von m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997360"/>
            <a:ext cx="821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 lokales Netzwerk stellt fü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ede Schulform e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nnvolle Einrichtung 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83480" y="1027080"/>
            <a:ext cx="81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fehlungen für eine pädagogische Netzwerk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557360"/>
            <a:ext cx="878544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de Schülerin und jeder Schüler hat einen eigenen Speicherplatz auf dem zentralen Rech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schütztes Abspeichern von eigenen Dok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speichern von persönlichen Lernstä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ede/jeder kann von der Lehrerin/dem Lehrer individuelle Arbeitsaufträg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ugewiesen beko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de Lerngruppe hat einen gemeinsam zugänglichen Speicherbereich (Gruppentausch) auf dem zentralen Rec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ichern lerngruppenbezogen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teilen von gemeinsamen Arbeitsaufträ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enaustausch zwischen den Schülerinnen und Schülern der Gru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ür alle Schülerinnen und Schüler der Schule existiert ein gemeinsames Tauschverzeichnis (Schultaus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enaustausch zwischen verschiedenen Grup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alle Schülerinnen und Schüler existiert ein gemeinsamer Vorlagenordn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557360"/>
            <a:ext cx="878544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de Lehrerin und jeder Lehrer hat einen eigenen persönlichen O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chütztes Abspeichern von eigenen Dok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icherplatz für Arbeitsergebnisse von Schülerinnen und Schül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ür alle Lehrerinnen und Lehrer existiert ein gemeinsamer Tauscho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austausch innerhalb des Kollegi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ür alle Schülerinnen und Schüler sowie Lehrerinnen und Lehrer gibt es ein gemeinsames Laufwerk für CD-s, die im Unterricht benötigt werden (virtuelles CD-Laufwe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der Raum mit mehreren Computern hat einen gemeinsamen Drucker, der von der Lehrerin/dem Lehrer gesteuert werden k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der Computer im Netzwerk hat Zugriff auf das Internet. Der Zugang muss von der Lehrerin/dem Lehrer freigegeben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r Internetverkehr wird über eine Filtertechnik reglement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3480" y="1027080"/>
            <a:ext cx="81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fehlungen für eine pädagogische Netzwerk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44640"/>
            <a:ext cx="7993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elen Dank für Ihre Aufmerksamk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5120" y="1052640"/>
            <a:ext cx="78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annungsfeld Pädagogik - Tech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1812960" cy="177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4437000"/>
            <a:ext cx="403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hne eine funktionsfähige IT-Technik ist ein pädagogisch sinnvoller Einsatz von Com-putern im Unterricht n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4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hne eine fundierte Fach-didaktik und -methodik ist ein sinnvoller Einsatz von Computern im Unterricht n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3068640"/>
            <a:ext cx="1655640" cy="576360"/>
          </a:xfrm>
          <a:prstGeom prst="leftRightArrow">
            <a:avLst>
              <a:gd name="adj1" fmla="val 50000"/>
              <a:gd name="adj2" fmla="val 57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4797360"/>
            <a:ext cx="936720" cy="504720"/>
          </a:xfrm>
          <a:prstGeom prst="leftRightArrow">
            <a:avLst>
              <a:gd name="adj1" fmla="val 50000"/>
              <a:gd name="adj2" fmla="val 36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28040" y="112536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raussetz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916280"/>
            <a:ext cx="642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enkompetente Lehrerinnen und Leh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ierte und lernfähige Schülerinnen und Schü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ktionsfähige und leistungsfähig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nvoll einsetzbare Peripheriegeräte (Drucker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aktisch und methodisch ausgereift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 funktionieren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9960" y="5734080"/>
            <a:ext cx="763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se Voraussetzungen gelten für alle Schul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45640" y="119700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hrerinnen und Le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916280"/>
            <a:ext cx="821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reitschaft, den in den neuen Lehrplänen geforderten Einsatz neuer Medien im Unterricht umzu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reitschaft zur didaktisch-methodischen Fort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ilnahme an fundierten Fortbildungsmaßnahmen zum Einsatz von Computern im Unterricht (muss zeitlich möglich se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Überblick über die Möglichkeiten des Einsatzes von Computern im Unter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erstützung und Hilfe durch Kolleginnen und Kollegen, Schulleitung, Medienzent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69960" y="112536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ülerinnen und Schü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44640"/>
            <a:ext cx="8210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Grundeinstellung zum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 als Werkzeug und nicht als Spielgerät akzep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nzentrations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reitschaft, sich an vorgegebene Regeln zu h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98200" y="119700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1720" y="2025720"/>
            <a:ext cx="7358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öglichst einheitliche Geräte (min. innerhalb eines Rau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e Gehäuse, Tastaturen, Mäuse und Bildsch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hnergeneration ab Pentium III (sinnvoll min. 800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ldschirmgröße min. 15 Zoll mit ergonomisch guten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stplattenschutzeinrichtung (manipulationsre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riebssystem min. Windows 2000 (besser Windows X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38040" y="1197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pherie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98900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rucker mit großer Stabilität (kein Plastikrüttler vom Media-Mar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edrige Kosten für Verbrauchsmaterialien (Tinte, To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anner mit einfacher Anschlusstechnik (USB) und einfach zu bedienende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gitalkamera, viele Megapixel (5) sind nicht erforde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amer mit hoher Lichstärke und langer Lampenlebensda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81720" y="112536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10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844640"/>
            <a:ext cx="8210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fache Installation (auch in einem Netzwe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he Stabilität (Absturzsicherh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fache Bedienung (Standardbedie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her Motivationsg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s- und lerngruppenangemessen (konfigur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iswerte Schullizenz, auch für Heimarbeitsplatz erweiter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70560" y="11253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4640"/>
            <a:ext cx="8210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derzeit erreichbar (Telefon oder E-M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mpetent und hilfs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reit, die Wünsche der Schule umzu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zahlbar (wenn externe Firma – Pauschalvertr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ktionszeit innerhalb von max. zwei bis drei Schult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undlich und zuvorkomm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8:38:06Z</dcterms:created>
  <dc:creator>PI</dc:creator>
  <dc:description/>
  <dc:language>en-US</dc:language>
  <cp:lastModifiedBy>günther</cp:lastModifiedBy>
  <dcterms:modified xsi:type="dcterms:W3CDTF">2005-06-19T20:19:34Z</dcterms:modified>
  <cp:revision>59</cp:revision>
  <dc:subject/>
  <dc:title>Folie 1</dc:title>
</cp:coreProperties>
</file>