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19.jpeg" ContentType="image/jpeg"/>
  <Override PartName="/ppt/media/image24.jpeg" ContentType="image/jpeg"/>
  <Override PartName="/ppt/media/image21.jpeg" ContentType="image/jpeg"/>
  <Override PartName="/ppt/media/image20.jpeg" ContentType="image/jpeg"/>
  <Override PartName="/ppt/media/image18.jpeg" ContentType="image/jpeg"/>
  <Override PartName="/ppt/media/image16.jpeg" ContentType="image/jpeg"/>
  <Override PartName="/ppt/media/image7.png" ContentType="image/png"/>
  <Override PartName="/ppt/media/image34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5.png" ContentType="image/png"/>
  <Override PartName="/ppt/media/image10.jpeg" ContentType="image/jpeg"/>
  <Override PartName="/ppt/media/image28.png" ContentType="image/png"/>
  <Override PartName="/ppt/media/image30.jpeg" ContentType="image/jpeg"/>
  <Override PartName="/ppt/media/image31.jpeg" ContentType="image/jpeg"/>
  <Override PartName="/ppt/media/image32.jpeg" ContentType="image/jpeg"/>
  <Override PartName="/ppt/media/image22.jpeg" ContentType="image/jpeg"/>
  <Override PartName="/ppt/media/image9.png" ContentType="image/png"/>
  <Override PartName="/ppt/media/image36.png" ContentType="image/png"/>
  <Override PartName="/ppt/media/image6.png" ContentType="image/png"/>
  <Override PartName="/ppt/media/image13.jpeg" ContentType="image/jpeg"/>
  <Override PartName="/ppt/media/image12.jpeg" ContentType="image/jpeg"/>
  <Override PartName="/ppt/media/image4.png" ContentType="image/png"/>
  <Override PartName="/ppt/media/image27.png" ContentType="image/png"/>
  <Override PartName="/ppt/media/image33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2.jpeg" ContentType="image/jpeg"/>
  <Override PartName="/ppt/media/image23.jpeg" ContentType="image/jpeg"/>
  <Override PartName="/ppt/media/image1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9947275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73E3-2010-4AE4-A4F6-ECEA27EB2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E1A5-4D30-45C9-BD11-32005818E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34D0-C336-4F9F-A28E-2B6D24123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B009-6CDA-42F8-908E-29EA15C93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F95B-AFB5-447F-8E46-034EAD1FD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ABAD-24A6-45A0-9E51-5DDDBBFBE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5CBC-6177-4358-9E89-9EB49C533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1AA6-7F1A-463E-B9A8-5B2733975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8EE3-CAEA-4F05-8E89-D96FC26F5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5E9B-817D-44D1-9600-1DD4DFBE9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5CE2-066A-4246-B567-116403ECD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BF7D-C0D8-47B9-8E43-8AEC7268F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4A64E-5B77-459D-8674-E022D70ED7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9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" Target="slide14.xml"/><Relationship Id="rId4" Type="http://schemas.openxmlformats.org/officeDocument/2006/relationships/slide" Target="slide15.xml"/><Relationship Id="rId5" Type="http://schemas.openxmlformats.org/officeDocument/2006/relationships/slide" Target="slide16.xml"/><Relationship Id="rId6" Type="http://schemas.openxmlformats.org/officeDocument/2006/relationships/slide" Target="slide17.xml"/><Relationship Id="rId7" Type="http://schemas.openxmlformats.org/officeDocument/2006/relationships/slide" Target="slide18.xml"/><Relationship Id="rId8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computerkeyboardforkids@t-online.de" TargetMode="External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makroheart.de/download.htm" TargetMode="External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gile.de/" TargetMode="External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sascha-friemel.de/" TargetMode="External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usm.de/" TargetMode="External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tastatur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-98280"/>
            <a:ext cx="9144000" cy="69562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000" y="115560"/>
            <a:ext cx="80643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stschreiben in der Grundsch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619280" y="1700280"/>
            <a:ext cx="612144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in Workshop anlässlich der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dien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ldungs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sse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6673680"/>
            <a:ext cx="3348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" spc="-1" strike="noStrike">
                <a:solidFill>
                  <a:srgbClr val="000000"/>
                </a:solidFill>
                <a:latin typeface="Arial"/>
              </a:rPr>
              <a:t>Tastschreiben in der Grundschule – MedienBildungsMesse 2005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58920" y="2205000"/>
            <a:ext cx="67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258920" y="2781360"/>
            <a:ext cx="676908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inDacty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astenblit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oldfinger Jun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10 Finger-Tastschreiben –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fiellascript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bilderte PC-Standard-Tastat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astenblit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ippköni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140000" y="1628640"/>
            <a:ext cx="454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fbau der Lernkarte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ür jede Taste 2 Kar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stbelegu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beleg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u schreibende Zeichen und eine passende Figur auf der Vorderse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f der Rückseite ein Schema für den Überlegungsablauf und eine Tastaturabbild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rnkarteibox (selbst basteln) mit 5 Fäche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341360"/>
            <a:ext cx="914400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324000" y="1773360"/>
            <a:ext cx="1655640" cy="14191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268360" y="1773360"/>
            <a:ext cx="1798920" cy="14382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539640" y="3141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rstbeleg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56000" y="31417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Zweitbeleg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826920" y="3645000"/>
            <a:ext cx="2592720" cy="24811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692360" y="60930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ückse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673680"/>
            <a:ext cx="3348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" spc="-1" strike="noStrike">
                <a:solidFill>
                  <a:srgbClr val="000000"/>
                </a:solidFill>
                <a:latin typeface="Arial"/>
              </a:rPr>
              <a:t>Tastschreiben in der Grundschule – MedienBildungsMesse 2005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457200" y="-18000"/>
            <a:ext cx="82296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0-Finger-Tastschreiben-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iellascrip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®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708360" y="76500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e Memokart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5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0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5" dur="5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6673680"/>
            <a:ext cx="3348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" spc="-1" strike="noStrike">
                <a:solidFill>
                  <a:srgbClr val="000000"/>
                </a:solidFill>
                <a:latin typeface="Arial"/>
              </a:rPr>
              <a:t>Tastschreiben in der Grundschule – MedienBildungsMesse 2005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1341360"/>
            <a:ext cx="914400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149800" y="2133720"/>
            <a:ext cx="3598920" cy="34844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323640" y="1628640"/>
            <a:ext cx="482436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staturlernprogramm V 3.6 ist zusätzlich erhältli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ur Festigung der gelernten Übungsabläu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verschiedene Lernangebo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m Überlegungsablauf zum Bewegungsablauf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Rückseite der Kart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aktische Übu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örter, kleinere Sätze zum Nachschreib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Üben nach Textvorga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peicherte Übungstexte auf Zeit abschreib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sgabe eines Ergebnisprotokolls am Ende der Übung. Auch Abbrüche werden protokollier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e Übungstexte erfas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ngabe von bis zu 6 verschiedenen Übungstex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457200" y="-18000"/>
            <a:ext cx="82296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0-Finger-Tastschreiben-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iellascrip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®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564000" y="76500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ie Multimedia-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0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9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4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9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4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7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2" dur="5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5" dur="500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0" dur="500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3" dur="500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6" dur="500"/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1" dur="500"/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4" dur="500"/>
                                        <p:tgtEl>
                                          <p:spTgt spid="1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6673680"/>
            <a:ext cx="3348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" spc="-1" strike="noStrike">
                <a:solidFill>
                  <a:srgbClr val="000000"/>
                </a:solidFill>
                <a:latin typeface="Arial"/>
              </a:rPr>
              <a:t>Tastschreiben in der Grundschule – MedienBildungsMesse 2005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1341360"/>
            <a:ext cx="914400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5149800" y="2133720"/>
            <a:ext cx="3598920" cy="348444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23640" y="1628640"/>
            <a:ext cx="482436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staturlernprogramm V 3.6 ist zusätzlich erhältli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ur Festigung der gelernten Übungsabläu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verschiedene Lernangebo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eies Schreiben und Üb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ch Buchvorlagen, Arbeitsblatt, Ansage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sgabe eines Ergebnisprotokolls am Ende der Übung. Auch Abbrüche werden protokollier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e Übungstexte erfas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ngabe von bis zu 6 verschiedenen Übungstex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staturpuzz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öglichst viele auftauchende Tasten sind in 3 Minuten auf einer leeren Tastatur anzuord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457200" y="-18000"/>
            <a:ext cx="82296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0-Finger-Tastschreiben-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iellascrip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®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564000" y="76500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ie Multimedia-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6673680"/>
            <a:ext cx="3348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" spc="-1" strike="noStrike">
                <a:solidFill>
                  <a:srgbClr val="000000"/>
                </a:solidFill>
                <a:latin typeface="Arial"/>
              </a:rPr>
              <a:t>Tastschreiben in der Grundschule – MedienBildungsMesse 2005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1341360"/>
            <a:ext cx="914400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323640" y="1773000"/>
            <a:ext cx="467964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usätzliches Angeb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rfordert die Vorbereitung auf mentaler Eb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ietet eine Kombination a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ederholungen - Men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raktische Übu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führung in die Textverarbeitung mit W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pezielles Geläufigkeits-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r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ausaufgabenprogram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57200" y="-18000"/>
            <a:ext cx="82296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0-Finger-Tastschreiben-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iellascrip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®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564000" y="76500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s Arbeitsh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5292720" y="1773360"/>
            <a:ext cx="3381480" cy="4537080"/>
          </a:xfrm>
          <a:prstGeom prst="rect">
            <a:avLst/>
          </a:prstGeom>
          <a:ln w="0">
            <a:noFill/>
          </a:ln>
        </p:spPr>
      </p:pic>
      <p:sp>
        <p:nvSpPr>
          <p:cNvPr id="132" name="">
            <a:hlinkClick r:id="rId3" action="ppaction://hlinksldjump"/>
          </p:cNvPr>
          <p:cNvSpPr/>
          <p:nvPr/>
        </p:nvSpPr>
        <p:spPr>
          <a:xfrm>
            <a:off x="4356000" y="4437000"/>
            <a:ext cx="216000" cy="28908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89080"/>
              <a:gd name="textAreaBottom" fmla="*/ 275400 h 289080"/>
            </a:gdLst>
            <a:ahLst/>
            <a:rect l="textAreaLeft" t="textAreaTop" r="textAreaRight" b="textAreaBottom"/>
            <a:pathLst>
              <a:path w="21600" h="28896">
                <a:moveTo>
                  <a:pt x="0" y="0"/>
                </a:moveTo>
                <a:lnTo>
                  <a:pt x="21600" y="0"/>
                </a:lnTo>
                <a:lnTo>
                  <a:pt x="21600" y="28896"/>
                </a:lnTo>
                <a:lnTo>
                  <a:pt x="0" y="28896"/>
                </a:lnTo>
                <a:close/>
              </a:path>
              <a:path fill="lightenLess" w="21600" h="2889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96">
                <a:moveTo>
                  <a:pt x="21600" y="0"/>
                </a:moveTo>
                <a:lnTo>
                  <a:pt x="21600" y="28896"/>
                </a:lnTo>
                <a:lnTo>
                  <a:pt x="20200" y="27496"/>
                </a:lnTo>
                <a:lnTo>
                  <a:pt x="20200" y="1400"/>
                </a:lnTo>
                <a:close/>
              </a:path>
              <a:path fill="darkenLess" w="21600" h="28896">
                <a:moveTo>
                  <a:pt x="21600" y="28896"/>
                </a:moveTo>
                <a:lnTo>
                  <a:pt x="0" y="28896"/>
                </a:lnTo>
                <a:lnTo>
                  <a:pt x="1400" y="27496"/>
                </a:lnTo>
                <a:lnTo>
                  <a:pt x="20200" y="27496"/>
                </a:lnTo>
                <a:close/>
              </a:path>
              <a:path fill="lighten" w="21600" h="28896">
                <a:moveTo>
                  <a:pt x="0" y="2889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96"/>
                </a:lnTo>
                <a:close/>
              </a:path>
              <a:path fill="darkenLess" w="21600" h="28896">
                <a:moveTo>
                  <a:pt x="5273" y="7633"/>
                </a:moveTo>
                <a:lnTo>
                  <a:pt x="12271" y="7633"/>
                </a:lnTo>
                <a:lnTo>
                  <a:pt x="16327" y="11132"/>
                </a:lnTo>
                <a:lnTo>
                  <a:pt x="16327" y="21263"/>
                </a:lnTo>
                <a:lnTo>
                  <a:pt x="5273" y="21263"/>
                </a:lnTo>
                <a:close/>
              </a:path>
              <a:path fill="darken" w="21600" h="28896">
                <a:moveTo>
                  <a:pt x="12271" y="7633"/>
                </a:moveTo>
                <a:lnTo>
                  <a:pt x="16327" y="11132"/>
                </a:lnTo>
                <a:lnTo>
                  <a:pt x="12271" y="11132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>
            <a:hlinkClick r:id="rId4" action="ppaction://hlinksldjump"/>
          </p:cNvPr>
          <p:cNvSpPr/>
          <p:nvPr/>
        </p:nvSpPr>
        <p:spPr>
          <a:xfrm>
            <a:off x="4356000" y="3500280"/>
            <a:ext cx="216000" cy="28908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89080"/>
              <a:gd name="textAreaBottom" fmla="*/ 275400 h 289080"/>
            </a:gdLst>
            <a:ahLst/>
            <a:rect l="textAreaLeft" t="textAreaTop" r="textAreaRight" b="textAreaBottom"/>
            <a:pathLst>
              <a:path w="21600" h="28896">
                <a:moveTo>
                  <a:pt x="0" y="0"/>
                </a:moveTo>
                <a:lnTo>
                  <a:pt x="21600" y="0"/>
                </a:lnTo>
                <a:lnTo>
                  <a:pt x="21600" y="28896"/>
                </a:lnTo>
                <a:lnTo>
                  <a:pt x="0" y="28896"/>
                </a:lnTo>
                <a:close/>
              </a:path>
              <a:path fill="lightenLess" w="21600" h="2889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96">
                <a:moveTo>
                  <a:pt x="21600" y="0"/>
                </a:moveTo>
                <a:lnTo>
                  <a:pt x="21600" y="28896"/>
                </a:lnTo>
                <a:lnTo>
                  <a:pt x="20200" y="27496"/>
                </a:lnTo>
                <a:lnTo>
                  <a:pt x="20200" y="1400"/>
                </a:lnTo>
                <a:close/>
              </a:path>
              <a:path fill="darkenLess" w="21600" h="28896">
                <a:moveTo>
                  <a:pt x="21600" y="28896"/>
                </a:moveTo>
                <a:lnTo>
                  <a:pt x="0" y="28896"/>
                </a:lnTo>
                <a:lnTo>
                  <a:pt x="1400" y="27496"/>
                </a:lnTo>
                <a:lnTo>
                  <a:pt x="20200" y="27496"/>
                </a:lnTo>
                <a:close/>
              </a:path>
              <a:path fill="lighten" w="21600" h="28896">
                <a:moveTo>
                  <a:pt x="0" y="2889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96"/>
                </a:lnTo>
                <a:close/>
              </a:path>
              <a:path fill="darkenLess" w="21600" h="28896">
                <a:moveTo>
                  <a:pt x="5273" y="7633"/>
                </a:moveTo>
                <a:lnTo>
                  <a:pt x="12271" y="7633"/>
                </a:lnTo>
                <a:lnTo>
                  <a:pt x="16327" y="11132"/>
                </a:lnTo>
                <a:lnTo>
                  <a:pt x="16327" y="21263"/>
                </a:lnTo>
                <a:lnTo>
                  <a:pt x="5273" y="21263"/>
                </a:lnTo>
                <a:close/>
              </a:path>
              <a:path fill="darken" w="21600" h="28896">
                <a:moveTo>
                  <a:pt x="12271" y="7633"/>
                </a:moveTo>
                <a:lnTo>
                  <a:pt x="16327" y="11132"/>
                </a:lnTo>
                <a:lnTo>
                  <a:pt x="12271" y="11132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>
            <a:hlinkClick r:id="rId5" action="ppaction://hlinksldjump"/>
          </p:cNvPr>
          <p:cNvSpPr/>
          <p:nvPr/>
        </p:nvSpPr>
        <p:spPr>
          <a:xfrm>
            <a:off x="4356000" y="3933720"/>
            <a:ext cx="216000" cy="28728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87280"/>
              <a:gd name="textAreaBottom" fmla="*/ 273600 h 287280"/>
            </a:gdLst>
            <a:ahLst/>
            <a:rect l="textAreaLeft" t="textAreaTop" r="textAreaRight" b="textAreaBottom"/>
            <a:pathLst>
              <a:path w="21600" h="28716">
                <a:moveTo>
                  <a:pt x="0" y="0"/>
                </a:moveTo>
                <a:lnTo>
                  <a:pt x="21600" y="0"/>
                </a:lnTo>
                <a:lnTo>
                  <a:pt x="21600" y="28716"/>
                </a:lnTo>
                <a:lnTo>
                  <a:pt x="0" y="28716"/>
                </a:lnTo>
                <a:close/>
              </a:path>
              <a:path fill="lightenLess" w="21600" h="2871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16">
                <a:moveTo>
                  <a:pt x="21600" y="0"/>
                </a:moveTo>
                <a:lnTo>
                  <a:pt x="21600" y="28716"/>
                </a:lnTo>
                <a:lnTo>
                  <a:pt x="20200" y="27316"/>
                </a:lnTo>
                <a:lnTo>
                  <a:pt x="20200" y="1400"/>
                </a:lnTo>
                <a:close/>
              </a:path>
              <a:path fill="darkenLess" w="21600" h="28716">
                <a:moveTo>
                  <a:pt x="21600" y="28716"/>
                </a:moveTo>
                <a:lnTo>
                  <a:pt x="0" y="28716"/>
                </a:lnTo>
                <a:lnTo>
                  <a:pt x="1400" y="27316"/>
                </a:lnTo>
                <a:lnTo>
                  <a:pt x="20200" y="27316"/>
                </a:lnTo>
                <a:close/>
              </a:path>
              <a:path fill="lighten" w="21600" h="28716">
                <a:moveTo>
                  <a:pt x="0" y="2871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16"/>
                </a:lnTo>
                <a:close/>
              </a:path>
              <a:path fill="darkenLess" w="21600" h="28716">
                <a:moveTo>
                  <a:pt x="5273" y="7543"/>
                </a:moveTo>
                <a:lnTo>
                  <a:pt x="12271" y="7543"/>
                </a:lnTo>
                <a:lnTo>
                  <a:pt x="16327" y="11042"/>
                </a:lnTo>
                <a:lnTo>
                  <a:pt x="16327" y="21173"/>
                </a:lnTo>
                <a:lnTo>
                  <a:pt x="5273" y="21173"/>
                </a:lnTo>
                <a:close/>
              </a:path>
              <a:path fill="darken" w="21600" h="28716">
                <a:moveTo>
                  <a:pt x="12271" y="7543"/>
                </a:moveTo>
                <a:lnTo>
                  <a:pt x="16327" y="11042"/>
                </a:lnTo>
                <a:lnTo>
                  <a:pt x="12271" y="11042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>
            <a:hlinkClick r:id="rId6" action="ppaction://hlinksldjump"/>
          </p:cNvPr>
          <p:cNvSpPr/>
          <p:nvPr/>
        </p:nvSpPr>
        <p:spPr>
          <a:xfrm>
            <a:off x="4356000" y="5013360"/>
            <a:ext cx="216000" cy="28872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88720"/>
              <a:gd name="textAreaBottom" fmla="*/ 275040 h 288720"/>
            </a:gdLst>
            <a:ahLst/>
            <a:rect l="textAreaLeft" t="textAreaTop" r="textAreaRight" b="textAreaBottom"/>
            <a:pathLst>
              <a:path w="21600" h="28860">
                <a:moveTo>
                  <a:pt x="0" y="0"/>
                </a:moveTo>
                <a:lnTo>
                  <a:pt x="21600" y="0"/>
                </a:lnTo>
                <a:lnTo>
                  <a:pt x="21600" y="28860"/>
                </a:lnTo>
                <a:lnTo>
                  <a:pt x="0" y="28860"/>
                </a:lnTo>
                <a:close/>
              </a:path>
              <a:path fill="lightenLess" w="21600" h="2886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60">
                <a:moveTo>
                  <a:pt x="21600" y="0"/>
                </a:moveTo>
                <a:lnTo>
                  <a:pt x="21600" y="28860"/>
                </a:lnTo>
                <a:lnTo>
                  <a:pt x="20200" y="27460"/>
                </a:lnTo>
                <a:lnTo>
                  <a:pt x="20200" y="1400"/>
                </a:lnTo>
                <a:close/>
              </a:path>
              <a:path fill="darkenLess" w="21600" h="28860">
                <a:moveTo>
                  <a:pt x="21600" y="28860"/>
                </a:moveTo>
                <a:lnTo>
                  <a:pt x="0" y="28860"/>
                </a:lnTo>
                <a:lnTo>
                  <a:pt x="1400" y="27460"/>
                </a:lnTo>
                <a:lnTo>
                  <a:pt x="20200" y="27460"/>
                </a:lnTo>
                <a:close/>
              </a:path>
              <a:path fill="lighten" w="21600" h="28860">
                <a:moveTo>
                  <a:pt x="0" y="2886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60"/>
                </a:lnTo>
                <a:close/>
              </a:path>
              <a:path fill="darkenLess" w="21600" h="28860">
                <a:moveTo>
                  <a:pt x="5273" y="7615"/>
                </a:moveTo>
                <a:lnTo>
                  <a:pt x="12271" y="7615"/>
                </a:lnTo>
                <a:lnTo>
                  <a:pt x="16327" y="11114"/>
                </a:lnTo>
                <a:lnTo>
                  <a:pt x="16327" y="21245"/>
                </a:lnTo>
                <a:lnTo>
                  <a:pt x="5273" y="21245"/>
                </a:lnTo>
                <a:close/>
              </a:path>
              <a:path fill="darken" w="21600" h="28860">
                <a:moveTo>
                  <a:pt x="12271" y="7615"/>
                </a:moveTo>
                <a:lnTo>
                  <a:pt x="16327" y="11114"/>
                </a:lnTo>
                <a:lnTo>
                  <a:pt x="12271" y="1111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>
            <a:hlinkClick r:id="rId7" action="ppaction://hlinksldjump"/>
          </p:cNvPr>
          <p:cNvSpPr/>
          <p:nvPr/>
        </p:nvSpPr>
        <p:spPr>
          <a:xfrm>
            <a:off x="4356000" y="5589720"/>
            <a:ext cx="216000" cy="28728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87280"/>
              <a:gd name="textAreaBottom" fmla="*/ 273600 h 287280"/>
            </a:gdLst>
            <a:ahLst/>
            <a:rect l="textAreaLeft" t="textAreaTop" r="textAreaRight" b="textAreaBottom"/>
            <a:pathLst>
              <a:path w="21600" h="28716">
                <a:moveTo>
                  <a:pt x="0" y="0"/>
                </a:moveTo>
                <a:lnTo>
                  <a:pt x="21600" y="0"/>
                </a:lnTo>
                <a:lnTo>
                  <a:pt x="21600" y="28716"/>
                </a:lnTo>
                <a:lnTo>
                  <a:pt x="0" y="28716"/>
                </a:lnTo>
                <a:close/>
              </a:path>
              <a:path fill="lightenLess" w="21600" h="2871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16">
                <a:moveTo>
                  <a:pt x="21600" y="0"/>
                </a:moveTo>
                <a:lnTo>
                  <a:pt x="21600" y="28716"/>
                </a:lnTo>
                <a:lnTo>
                  <a:pt x="20200" y="27316"/>
                </a:lnTo>
                <a:lnTo>
                  <a:pt x="20200" y="1400"/>
                </a:lnTo>
                <a:close/>
              </a:path>
              <a:path fill="darkenLess" w="21600" h="28716">
                <a:moveTo>
                  <a:pt x="21600" y="28716"/>
                </a:moveTo>
                <a:lnTo>
                  <a:pt x="0" y="28716"/>
                </a:lnTo>
                <a:lnTo>
                  <a:pt x="1400" y="27316"/>
                </a:lnTo>
                <a:lnTo>
                  <a:pt x="20200" y="27316"/>
                </a:lnTo>
                <a:close/>
              </a:path>
              <a:path fill="lighten" w="21600" h="28716">
                <a:moveTo>
                  <a:pt x="0" y="2871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16"/>
                </a:lnTo>
                <a:close/>
              </a:path>
              <a:path fill="darkenLess" w="21600" h="28716">
                <a:moveTo>
                  <a:pt x="5273" y="7543"/>
                </a:moveTo>
                <a:lnTo>
                  <a:pt x="12271" y="7543"/>
                </a:lnTo>
                <a:lnTo>
                  <a:pt x="16327" y="11042"/>
                </a:lnTo>
                <a:lnTo>
                  <a:pt x="16327" y="21173"/>
                </a:lnTo>
                <a:lnTo>
                  <a:pt x="5273" y="21173"/>
                </a:lnTo>
                <a:close/>
              </a:path>
              <a:path fill="darken" w="21600" h="28716">
                <a:moveTo>
                  <a:pt x="12271" y="7543"/>
                </a:moveTo>
                <a:lnTo>
                  <a:pt x="16327" y="11042"/>
                </a:lnTo>
                <a:lnTo>
                  <a:pt x="12271" y="11042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9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6" dur="10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3" dur="10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0" dur="10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5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2" dur="10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7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4" dur="10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9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6" dur="100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1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8" dur="1000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3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457200" y="-17640"/>
            <a:ext cx="822960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0-Finger-Tastschreiben-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iellascrip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®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403280" y="765000"/>
            <a:ext cx="65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s Arbeitsheft - Einführung in die Textverarbeitung mit W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1341360"/>
            <a:ext cx="914400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2771640" y="1440000"/>
            <a:ext cx="3753000" cy="5229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95280" y="609300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2" h="21600">
                <a:moveTo>
                  <a:pt x="5585" y="7493"/>
                </a:moveTo>
                <a:lnTo>
                  <a:pt x="9092" y="7493"/>
                </a:lnTo>
                <a:lnTo>
                  <a:pt x="9092" y="12828"/>
                </a:lnTo>
                <a:cubicBezTo>
                  <a:pt x="9092" y="13751"/>
                  <a:pt x="9893" y="14482"/>
                  <a:pt x="10929" y="14482"/>
                </a:cubicBezTo>
                <a:lnTo>
                  <a:pt x="12591" y="14482"/>
                </a:lnTo>
                <a:cubicBezTo>
                  <a:pt x="13627" y="14482"/>
                  <a:pt x="14427" y="13751"/>
                  <a:pt x="14427" y="12828"/>
                </a:cubicBezTo>
                <a:lnTo>
                  <a:pt x="14427" y="7493"/>
                </a:lnTo>
                <a:lnTo>
                  <a:pt x="12591" y="7493"/>
                </a:lnTo>
                <a:lnTo>
                  <a:pt x="16099" y="3985"/>
                </a:lnTo>
                <a:lnTo>
                  <a:pt x="19772" y="7493"/>
                </a:lnTo>
                <a:lnTo>
                  <a:pt x="17935" y="7493"/>
                </a:lnTo>
                <a:lnTo>
                  <a:pt x="17935" y="12828"/>
                </a:lnTo>
                <a:cubicBezTo>
                  <a:pt x="17935" y="15596"/>
                  <a:pt x="15359" y="18155"/>
                  <a:pt x="12591" y="18155"/>
                </a:cubicBezTo>
                <a:lnTo>
                  <a:pt x="10929" y="18155"/>
                </a:lnTo>
                <a:cubicBezTo>
                  <a:pt x="8161" y="18155"/>
                  <a:pt x="5585" y="15596"/>
                  <a:pt x="5585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6673680"/>
            <a:ext cx="3348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" spc="-1" strike="noStrike">
                <a:solidFill>
                  <a:srgbClr val="000000"/>
                </a:solidFill>
                <a:latin typeface="Arial"/>
              </a:rPr>
              <a:t>Tastschreiben in der Grundschule – MedienBildungsMesse 2005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457200" y="-17640"/>
            <a:ext cx="822960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0-Finger-Tastschreiben-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iellascrip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®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050920" y="765000"/>
            <a:ext cx="55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s Arbeitsheft – Wiederholung auf mentaler Eb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1341360"/>
            <a:ext cx="914400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2843280" y="1484280"/>
            <a:ext cx="3689280" cy="52135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395280" y="609300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2" h="21600">
                <a:moveTo>
                  <a:pt x="5585" y="7493"/>
                </a:moveTo>
                <a:lnTo>
                  <a:pt x="9092" y="7493"/>
                </a:lnTo>
                <a:lnTo>
                  <a:pt x="9092" y="12828"/>
                </a:lnTo>
                <a:cubicBezTo>
                  <a:pt x="9092" y="13751"/>
                  <a:pt x="9893" y="14482"/>
                  <a:pt x="10929" y="14482"/>
                </a:cubicBezTo>
                <a:lnTo>
                  <a:pt x="12591" y="14482"/>
                </a:lnTo>
                <a:cubicBezTo>
                  <a:pt x="13627" y="14482"/>
                  <a:pt x="14427" y="13751"/>
                  <a:pt x="14427" y="12828"/>
                </a:cubicBezTo>
                <a:lnTo>
                  <a:pt x="14427" y="7493"/>
                </a:lnTo>
                <a:lnTo>
                  <a:pt x="12591" y="7493"/>
                </a:lnTo>
                <a:lnTo>
                  <a:pt x="16099" y="3985"/>
                </a:lnTo>
                <a:lnTo>
                  <a:pt x="19772" y="7493"/>
                </a:lnTo>
                <a:lnTo>
                  <a:pt x="17935" y="7493"/>
                </a:lnTo>
                <a:lnTo>
                  <a:pt x="17935" y="12828"/>
                </a:lnTo>
                <a:cubicBezTo>
                  <a:pt x="17935" y="15596"/>
                  <a:pt x="15359" y="18155"/>
                  <a:pt x="12591" y="18155"/>
                </a:cubicBezTo>
                <a:lnTo>
                  <a:pt x="10929" y="18155"/>
                </a:lnTo>
                <a:cubicBezTo>
                  <a:pt x="8161" y="18155"/>
                  <a:pt x="5585" y="15596"/>
                  <a:pt x="5585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6673680"/>
            <a:ext cx="3348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" spc="-1" strike="noStrike">
                <a:solidFill>
                  <a:srgbClr val="000000"/>
                </a:solidFill>
                <a:latin typeface="Arial"/>
              </a:rPr>
              <a:t>Tastschreiben in der Grundschule – MedienBildungsMesse 2005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457200" y="-17640"/>
            <a:ext cx="822960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0-Finger-Tastschreiben-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iellascrip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®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556000" y="76500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s Arbeitsheft – Praktische Übun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1341360"/>
            <a:ext cx="914400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2743200" y="1460520"/>
            <a:ext cx="3754440" cy="52387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395280" y="609300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2" h="21600">
                <a:moveTo>
                  <a:pt x="5585" y="7493"/>
                </a:moveTo>
                <a:lnTo>
                  <a:pt x="9092" y="7493"/>
                </a:lnTo>
                <a:lnTo>
                  <a:pt x="9092" y="12828"/>
                </a:lnTo>
                <a:cubicBezTo>
                  <a:pt x="9092" y="13751"/>
                  <a:pt x="9893" y="14482"/>
                  <a:pt x="10929" y="14482"/>
                </a:cubicBezTo>
                <a:lnTo>
                  <a:pt x="12591" y="14482"/>
                </a:lnTo>
                <a:cubicBezTo>
                  <a:pt x="13627" y="14482"/>
                  <a:pt x="14427" y="13751"/>
                  <a:pt x="14427" y="12828"/>
                </a:cubicBezTo>
                <a:lnTo>
                  <a:pt x="14427" y="7493"/>
                </a:lnTo>
                <a:lnTo>
                  <a:pt x="12591" y="7493"/>
                </a:lnTo>
                <a:lnTo>
                  <a:pt x="16099" y="3985"/>
                </a:lnTo>
                <a:lnTo>
                  <a:pt x="19772" y="7493"/>
                </a:lnTo>
                <a:lnTo>
                  <a:pt x="17935" y="7493"/>
                </a:lnTo>
                <a:lnTo>
                  <a:pt x="17935" y="12828"/>
                </a:lnTo>
                <a:cubicBezTo>
                  <a:pt x="17935" y="15596"/>
                  <a:pt x="15359" y="18155"/>
                  <a:pt x="12591" y="18155"/>
                </a:cubicBezTo>
                <a:lnTo>
                  <a:pt x="10929" y="18155"/>
                </a:lnTo>
                <a:cubicBezTo>
                  <a:pt x="8161" y="18155"/>
                  <a:pt x="5585" y="15596"/>
                  <a:pt x="5585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6673680"/>
            <a:ext cx="3348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" spc="-1" strike="noStrike">
                <a:solidFill>
                  <a:srgbClr val="000000"/>
                </a:solidFill>
                <a:latin typeface="Arial"/>
              </a:rPr>
              <a:t>Tastschreiben in der Grundschule – MedienBildungsMesse 2005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457200" y="-17640"/>
            <a:ext cx="822960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0-Finger-Tastschreiben-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iellascrip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®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556000" y="765000"/>
            <a:ext cx="42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s Arbeitsheft – Geläufigkeitsübun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1341360"/>
            <a:ext cx="914400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2987640" y="1484280"/>
            <a:ext cx="3686040" cy="518472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395280" y="609300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2" h="21600">
                <a:moveTo>
                  <a:pt x="5585" y="7493"/>
                </a:moveTo>
                <a:lnTo>
                  <a:pt x="9092" y="7493"/>
                </a:lnTo>
                <a:lnTo>
                  <a:pt x="9092" y="12828"/>
                </a:lnTo>
                <a:cubicBezTo>
                  <a:pt x="9092" y="13751"/>
                  <a:pt x="9893" y="14482"/>
                  <a:pt x="10929" y="14482"/>
                </a:cubicBezTo>
                <a:lnTo>
                  <a:pt x="12591" y="14482"/>
                </a:lnTo>
                <a:cubicBezTo>
                  <a:pt x="13627" y="14482"/>
                  <a:pt x="14427" y="13751"/>
                  <a:pt x="14427" y="12828"/>
                </a:cubicBezTo>
                <a:lnTo>
                  <a:pt x="14427" y="7493"/>
                </a:lnTo>
                <a:lnTo>
                  <a:pt x="12591" y="7493"/>
                </a:lnTo>
                <a:lnTo>
                  <a:pt x="16099" y="3985"/>
                </a:lnTo>
                <a:lnTo>
                  <a:pt x="19772" y="7493"/>
                </a:lnTo>
                <a:lnTo>
                  <a:pt x="17935" y="7493"/>
                </a:lnTo>
                <a:lnTo>
                  <a:pt x="17935" y="12828"/>
                </a:lnTo>
                <a:cubicBezTo>
                  <a:pt x="17935" y="15596"/>
                  <a:pt x="15359" y="18155"/>
                  <a:pt x="12591" y="18155"/>
                </a:cubicBezTo>
                <a:lnTo>
                  <a:pt x="10929" y="18155"/>
                </a:lnTo>
                <a:cubicBezTo>
                  <a:pt x="8161" y="18155"/>
                  <a:pt x="5585" y="15596"/>
                  <a:pt x="5585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6673680"/>
            <a:ext cx="3348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" spc="-1" strike="noStrike">
                <a:solidFill>
                  <a:srgbClr val="000000"/>
                </a:solidFill>
                <a:latin typeface="Arial"/>
              </a:rPr>
              <a:t>Tastschreiben in der Grundschule – MedienBildungsMesse 2005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457200" y="-17640"/>
            <a:ext cx="822960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0-Finger-Tastschreiben-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iellascrip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®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411280" y="765000"/>
            <a:ext cx="47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s Arbeitsheft – Hausaufgabenprogra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1341360"/>
            <a:ext cx="914400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2700360" y="1484280"/>
            <a:ext cx="3711600" cy="52023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395280" y="609300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2" h="21600">
                <a:moveTo>
                  <a:pt x="5585" y="7493"/>
                </a:moveTo>
                <a:lnTo>
                  <a:pt x="9092" y="7493"/>
                </a:lnTo>
                <a:lnTo>
                  <a:pt x="9092" y="12828"/>
                </a:lnTo>
                <a:cubicBezTo>
                  <a:pt x="9092" y="13751"/>
                  <a:pt x="9893" y="14482"/>
                  <a:pt x="10929" y="14482"/>
                </a:cubicBezTo>
                <a:lnTo>
                  <a:pt x="12591" y="14482"/>
                </a:lnTo>
                <a:cubicBezTo>
                  <a:pt x="13627" y="14482"/>
                  <a:pt x="14427" y="13751"/>
                  <a:pt x="14427" y="12828"/>
                </a:cubicBezTo>
                <a:lnTo>
                  <a:pt x="14427" y="7493"/>
                </a:lnTo>
                <a:lnTo>
                  <a:pt x="12591" y="7493"/>
                </a:lnTo>
                <a:lnTo>
                  <a:pt x="16099" y="3985"/>
                </a:lnTo>
                <a:lnTo>
                  <a:pt x="19772" y="7493"/>
                </a:lnTo>
                <a:lnTo>
                  <a:pt x="17935" y="7493"/>
                </a:lnTo>
                <a:lnTo>
                  <a:pt x="17935" y="12828"/>
                </a:lnTo>
                <a:cubicBezTo>
                  <a:pt x="17935" y="15596"/>
                  <a:pt x="15359" y="18155"/>
                  <a:pt x="12591" y="18155"/>
                </a:cubicBezTo>
                <a:lnTo>
                  <a:pt x="10929" y="18155"/>
                </a:lnTo>
                <a:cubicBezTo>
                  <a:pt x="8161" y="18155"/>
                  <a:pt x="5585" y="15596"/>
                  <a:pt x="5585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6673680"/>
            <a:ext cx="3348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" spc="-1" strike="noStrike">
                <a:solidFill>
                  <a:srgbClr val="000000"/>
                </a:solidFill>
                <a:latin typeface="Arial"/>
              </a:rPr>
              <a:t>Tastschreiben in der Grundschule – MedienBildungsMesse 2005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140000" y="1413000"/>
            <a:ext cx="45464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ntwickelt von Dr. Rüdiger C. Schlich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kademischer Direktor an der katholischen Universität Eichstätt-Ingolstad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lbstklebende Sticker für Standardtastature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nfangsbuchstabe des Tieres entspricht der Buchstabentast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ymbole aus einem Thema (Tiere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ördert die Motiva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1341360"/>
            <a:ext cx="914400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6673680"/>
            <a:ext cx="3348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" spc="-1" strike="noStrike">
                <a:solidFill>
                  <a:srgbClr val="000000"/>
                </a:solidFill>
                <a:latin typeface="Arial"/>
              </a:rPr>
              <a:t>Tastschreiben in der Grundschule – MedienBildungsMesse 2005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title"/>
          </p:nvPr>
        </p:nvSpPr>
        <p:spPr>
          <a:xfrm>
            <a:off x="457200" y="-18000"/>
            <a:ext cx="82296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bilderte PC-Standard-Tastatur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276720" y="76500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QWERTZ-Syste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826920" y="1700280"/>
            <a:ext cx="2552760" cy="192384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826920" y="4076640"/>
            <a:ext cx="2556000" cy="1971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3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4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5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6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7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8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692360" y="2133720"/>
            <a:ext cx="5400720" cy="36176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556000" y="836640"/>
            <a:ext cx="40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in Zehnfinger-Kurs von Mühlac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WinDactylo"/>
          <p:cNvPicPr/>
          <p:nvPr/>
        </p:nvPicPr>
        <p:blipFill>
          <a:blip r:embed="rId3"/>
          <a:stretch/>
        </p:blipFill>
        <p:spPr>
          <a:xfrm>
            <a:off x="1763640" y="44280"/>
            <a:ext cx="5616720" cy="8384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1341360"/>
            <a:ext cx="914400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1692360" y="5950080"/>
            <a:ext cx="5351400" cy="5983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6673680"/>
            <a:ext cx="3348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" spc="-1" strike="noStrike">
                <a:solidFill>
                  <a:srgbClr val="000000"/>
                </a:solidFill>
                <a:latin typeface="Arial"/>
              </a:rPr>
              <a:t>Tastschreiben in der Grundschule – MedienBildungsMesse 2005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394920" y="4005360"/>
            <a:ext cx="8280360" cy="22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Sticker sind wahlweise transparent/nicht transparen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Ein Satz mit 30 Tierpiktogrammen kostet 15 €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Passende Lautierkarte 15 €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Komplett bebilderte Tastatur 50€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Sticker auch für andere Arbeitsmaterialien geeigne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Kontakt: </a:t>
            </a:r>
            <a:r>
              <a:rPr b="0" lang="de-DE" sz="23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omputerkeyboardforkids@t-online.d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1341360"/>
            <a:ext cx="914400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6673680"/>
            <a:ext cx="3348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" spc="-1" strike="noStrike">
                <a:solidFill>
                  <a:srgbClr val="000000"/>
                </a:solidFill>
                <a:latin typeface="Arial"/>
              </a:rPr>
              <a:t>Tastschreiben in der Grundschule – MedienBildungsMesse 2005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title"/>
          </p:nvPr>
        </p:nvSpPr>
        <p:spPr>
          <a:xfrm>
            <a:off x="457200" y="-18000"/>
            <a:ext cx="82296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bilderte PC-Standard-Tastatur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276720" y="76500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QWERTZ-Syste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2195640" y="1413000"/>
            <a:ext cx="5473440" cy="2476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Download TippFix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95280" y="1628640"/>
            <a:ext cx="3887640" cy="250848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457200" y="-17640"/>
            <a:ext cx="822960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TippFix 1.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1341360"/>
            <a:ext cx="914400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4643280" y="1557360"/>
            <a:ext cx="41148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e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 durchdachte und aufeinander aufbauende Lektio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stiken und Auswertung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gebnisse ausdruck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lare Bedienoberflä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gene Texte können eingegeben we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voraussetzungen beachte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635280" y="76500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on Makro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6673680"/>
            <a:ext cx="3348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" spc="-1" strike="noStrike">
                <a:solidFill>
                  <a:srgbClr val="000000"/>
                </a:solidFill>
                <a:latin typeface="Arial"/>
              </a:rPr>
              <a:t>Tastschreiben in der Grundschule – MedienBildungsMesse 2005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53480" y="4724280"/>
            <a:ext cx="326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ystemvoraussetzung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n 2000 oder Win X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fill="hold">
                      <p:stCondLst>
                        <p:cond delay="0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4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4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4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4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5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5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87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5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457200" y="-17640"/>
            <a:ext cx="822960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TippKönig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1341360"/>
            <a:ext cx="914400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324000" y="1557000"/>
            <a:ext cx="47527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hare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lare strukturierte, selbsterklärende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dienoberfläc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6 durchdachte und aufeinander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ufbauende Lektionen in drei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ernstuf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ernstufe 1 – Position der Tast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ernstufe 2 – Laufschrift / Lernspie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ernstufe 3 – Test / Testauswert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tatistiken und Auswertu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gene Texte können eingegeben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er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emoversion unter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gile.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35280" y="76500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on Makro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5508720" y="1557360"/>
            <a:ext cx="3456000" cy="26100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0" y="6673680"/>
            <a:ext cx="3348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" spc="-1" strike="noStrike">
                <a:solidFill>
                  <a:srgbClr val="000000"/>
                </a:solidFill>
                <a:latin typeface="Arial"/>
              </a:rPr>
              <a:t>Tastschreiben in der Grundschule – MedienBildungsMesse 2005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649480" y="4508640"/>
            <a:ext cx="3267000" cy="14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ystemvoraussetzung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n95/98/Me/2000/XP/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ntium 133 MH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b 32 M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6MB Festplattenspeic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833400" y="3936960"/>
            <a:ext cx="216000" cy="28908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89080"/>
              <a:gd name="textAreaBottom" fmla="*/ 275400 h 289080"/>
            </a:gdLst>
            <a:ahLst/>
            <a:rect l="textAreaLeft" t="textAreaTop" r="textAreaRight" b="textAreaBottom"/>
            <a:pathLst>
              <a:path w="21600" h="28896">
                <a:moveTo>
                  <a:pt x="0" y="0"/>
                </a:moveTo>
                <a:lnTo>
                  <a:pt x="21600" y="0"/>
                </a:lnTo>
                <a:lnTo>
                  <a:pt x="21600" y="28896"/>
                </a:lnTo>
                <a:lnTo>
                  <a:pt x="0" y="28896"/>
                </a:lnTo>
                <a:close/>
              </a:path>
              <a:path fill="lightenLess" w="21600" h="2889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96">
                <a:moveTo>
                  <a:pt x="21600" y="0"/>
                </a:moveTo>
                <a:lnTo>
                  <a:pt x="21600" y="28896"/>
                </a:lnTo>
                <a:lnTo>
                  <a:pt x="20200" y="27496"/>
                </a:lnTo>
                <a:lnTo>
                  <a:pt x="20200" y="1400"/>
                </a:lnTo>
                <a:close/>
              </a:path>
              <a:path fill="darkenLess" w="21600" h="28896">
                <a:moveTo>
                  <a:pt x="21600" y="28896"/>
                </a:moveTo>
                <a:lnTo>
                  <a:pt x="0" y="28896"/>
                </a:lnTo>
                <a:lnTo>
                  <a:pt x="1400" y="27496"/>
                </a:lnTo>
                <a:lnTo>
                  <a:pt x="20200" y="27496"/>
                </a:lnTo>
                <a:close/>
              </a:path>
              <a:path fill="lighten" w="21600" h="28896">
                <a:moveTo>
                  <a:pt x="0" y="2889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96"/>
                </a:lnTo>
                <a:close/>
              </a:path>
              <a:path fill="darkenLess" w="21600" h="28896">
                <a:moveTo>
                  <a:pt x="5273" y="7633"/>
                </a:moveTo>
                <a:lnTo>
                  <a:pt x="12271" y="7633"/>
                </a:lnTo>
                <a:lnTo>
                  <a:pt x="16327" y="11132"/>
                </a:lnTo>
                <a:lnTo>
                  <a:pt x="16327" y="21263"/>
                </a:lnTo>
                <a:lnTo>
                  <a:pt x="5273" y="21263"/>
                </a:lnTo>
                <a:close/>
              </a:path>
              <a:path fill="darken" w="21600" h="28896">
                <a:moveTo>
                  <a:pt x="12271" y="7633"/>
                </a:moveTo>
                <a:lnTo>
                  <a:pt x="16327" y="11132"/>
                </a:lnTo>
                <a:lnTo>
                  <a:pt x="12271" y="11132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826920" y="4267080"/>
            <a:ext cx="216000" cy="28908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89080"/>
              <a:gd name="textAreaBottom" fmla="*/ 275400 h 289080"/>
            </a:gdLst>
            <a:ahLst/>
            <a:rect l="textAreaLeft" t="textAreaTop" r="textAreaRight" b="textAreaBottom"/>
            <a:pathLst>
              <a:path w="21600" h="28896">
                <a:moveTo>
                  <a:pt x="0" y="0"/>
                </a:moveTo>
                <a:lnTo>
                  <a:pt x="21600" y="0"/>
                </a:lnTo>
                <a:lnTo>
                  <a:pt x="21600" y="28896"/>
                </a:lnTo>
                <a:lnTo>
                  <a:pt x="0" y="28896"/>
                </a:lnTo>
                <a:close/>
              </a:path>
              <a:path fill="lightenLess" w="21600" h="2889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96">
                <a:moveTo>
                  <a:pt x="21600" y="0"/>
                </a:moveTo>
                <a:lnTo>
                  <a:pt x="21600" y="28896"/>
                </a:lnTo>
                <a:lnTo>
                  <a:pt x="20200" y="27496"/>
                </a:lnTo>
                <a:lnTo>
                  <a:pt x="20200" y="1400"/>
                </a:lnTo>
                <a:close/>
              </a:path>
              <a:path fill="darkenLess" w="21600" h="28896">
                <a:moveTo>
                  <a:pt x="21600" y="28896"/>
                </a:moveTo>
                <a:lnTo>
                  <a:pt x="0" y="28896"/>
                </a:lnTo>
                <a:lnTo>
                  <a:pt x="1400" y="27496"/>
                </a:lnTo>
                <a:lnTo>
                  <a:pt x="20200" y="27496"/>
                </a:lnTo>
                <a:close/>
              </a:path>
              <a:path fill="lighten" w="21600" h="28896">
                <a:moveTo>
                  <a:pt x="0" y="2889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96"/>
                </a:lnTo>
                <a:close/>
              </a:path>
              <a:path fill="darkenLess" w="21600" h="28896">
                <a:moveTo>
                  <a:pt x="5273" y="7633"/>
                </a:moveTo>
                <a:lnTo>
                  <a:pt x="12271" y="7633"/>
                </a:lnTo>
                <a:lnTo>
                  <a:pt x="16327" y="11132"/>
                </a:lnTo>
                <a:lnTo>
                  <a:pt x="16327" y="21263"/>
                </a:lnTo>
                <a:lnTo>
                  <a:pt x="5273" y="21263"/>
                </a:lnTo>
                <a:close/>
              </a:path>
              <a:path fill="darken" w="21600" h="28896">
                <a:moveTo>
                  <a:pt x="12271" y="7633"/>
                </a:moveTo>
                <a:lnTo>
                  <a:pt x="16327" y="11132"/>
                </a:lnTo>
                <a:lnTo>
                  <a:pt x="12271" y="11132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3141720"/>
            <a:ext cx="863640" cy="649080"/>
          </a:xfrm>
          <a:custGeom>
            <a:avLst/>
            <a:gdLst>
              <a:gd name="textAreaLeft" fmla="*/ 0 w 863640"/>
              <a:gd name="textAreaRight" fmla="*/ 864000 w 863640"/>
              <a:gd name="textAreaTop" fmla="*/ 0 h 649080"/>
              <a:gd name="textAreaBottom" fmla="*/ 649440 h 649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7565" stAng="10800000" swAng="5400000"/>
                <a:lnTo>
                  <a:pt x="15446" y="4595"/>
                </a:lnTo>
                <a:lnTo>
                  <a:pt x="15446" y="0"/>
                </a:lnTo>
                <a:lnTo>
                  <a:pt x="21600" y="6079"/>
                </a:lnTo>
                <a:lnTo>
                  <a:pt x="15446" y="12158"/>
                </a:lnTo>
                <a:lnTo>
                  <a:pt x="15446" y="7563"/>
                </a:lnTo>
                <a:lnTo>
                  <a:pt x="12427" y="7563"/>
                </a:lnTo>
                <a:arcTo wR="9459" hR="4597" stAng="16200000" swAng="-5400000"/>
                <a:lnTo>
                  <a:pt x="296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878" dur="indefinite" restart="never" nodeType="tmRoot">
          <p:childTnLst>
            <p:seq>
              <p:cTn id="879" dur="indefinite" nodeType="mainSeq">
                <p:childTnLst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4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6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1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6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1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6" dur="5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11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6" dur="5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4" dur="500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2" dur="500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7" dur="500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2" dur="500"/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457200" y="-17640"/>
            <a:ext cx="822960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TippKönig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1341360"/>
            <a:ext cx="914400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276720" y="76500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rnstufe 2 - Laufschri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1116000" y="1557360"/>
            <a:ext cx="6840720" cy="505764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0" y="6673680"/>
            <a:ext cx="3348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" spc="-1" strike="noStrike">
                <a:solidFill>
                  <a:srgbClr val="000000"/>
                </a:solidFill>
                <a:latin typeface="Arial"/>
              </a:rPr>
              <a:t>Tastschreiben in der Grundschule – MedienBildungsMesse 2005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>
            <a:hlinkClick r:id="" action="ppaction://hlinkshowjump?jump=nextslide"/>
          </p:cNvPr>
          <p:cNvSpPr/>
          <p:nvPr/>
        </p:nvSpPr>
        <p:spPr>
          <a:xfrm>
            <a:off x="8244000" y="6093000"/>
            <a:ext cx="504720" cy="43164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254" h="21600">
                <a:moveTo>
                  <a:pt x="0" y="0"/>
                </a:moveTo>
                <a:lnTo>
                  <a:pt x="25254" y="0"/>
                </a:lnTo>
                <a:lnTo>
                  <a:pt x="25254" y="21600"/>
                </a:lnTo>
                <a:lnTo>
                  <a:pt x="0" y="21600"/>
                </a:lnTo>
                <a:close/>
              </a:path>
              <a:path fill="lightenLess" w="25254" h="21600">
                <a:moveTo>
                  <a:pt x="0" y="0"/>
                </a:moveTo>
                <a:lnTo>
                  <a:pt x="25254" y="0"/>
                </a:lnTo>
                <a:lnTo>
                  <a:pt x="23854" y="1400"/>
                </a:lnTo>
                <a:lnTo>
                  <a:pt x="1400" y="1400"/>
                </a:lnTo>
                <a:close/>
              </a:path>
              <a:path fill="darken" w="25254" h="21600">
                <a:moveTo>
                  <a:pt x="25254" y="0"/>
                </a:moveTo>
                <a:lnTo>
                  <a:pt x="25254" y="21600"/>
                </a:lnTo>
                <a:lnTo>
                  <a:pt x="23854" y="20200"/>
                </a:lnTo>
                <a:lnTo>
                  <a:pt x="23854" y="1400"/>
                </a:lnTo>
                <a:close/>
              </a:path>
              <a:path fill="darkenLess" w="25254" h="21600">
                <a:moveTo>
                  <a:pt x="252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54" y="20200"/>
                </a:lnTo>
                <a:close/>
              </a:path>
              <a:path fill="lighten" w="252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54" h="21600">
                <a:moveTo>
                  <a:pt x="5621" y="3794"/>
                </a:moveTo>
                <a:lnTo>
                  <a:pt x="19633" y="10800"/>
                </a:lnTo>
                <a:lnTo>
                  <a:pt x="562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>
            <a:hlinkClick r:id="" action="ppaction://hlinkshowjump?jump=previousslide"/>
          </p:cNvPr>
          <p:cNvSpPr/>
          <p:nvPr/>
        </p:nvSpPr>
        <p:spPr>
          <a:xfrm>
            <a:off x="250920" y="6093000"/>
            <a:ext cx="433440" cy="360360"/>
          </a:xfrm>
          <a:custGeom>
            <a:avLst/>
            <a:gdLst>
              <a:gd name="textAreaLeft" fmla="*/ 23040 w 433440"/>
              <a:gd name="textAreaRight" fmla="*/ 410400 w 4334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976" h="21600">
                <a:moveTo>
                  <a:pt x="0" y="0"/>
                </a:moveTo>
                <a:lnTo>
                  <a:pt x="25976" y="0"/>
                </a:lnTo>
                <a:lnTo>
                  <a:pt x="25976" y="21600"/>
                </a:lnTo>
                <a:lnTo>
                  <a:pt x="0" y="21600"/>
                </a:lnTo>
                <a:close/>
              </a:path>
              <a:path fill="lightenLess" w="25976" h="21600">
                <a:moveTo>
                  <a:pt x="0" y="0"/>
                </a:moveTo>
                <a:lnTo>
                  <a:pt x="25976" y="0"/>
                </a:lnTo>
                <a:lnTo>
                  <a:pt x="24576" y="1400"/>
                </a:lnTo>
                <a:lnTo>
                  <a:pt x="1400" y="1400"/>
                </a:lnTo>
                <a:close/>
              </a:path>
              <a:path fill="darken" w="25976" h="21600">
                <a:moveTo>
                  <a:pt x="25976" y="0"/>
                </a:moveTo>
                <a:lnTo>
                  <a:pt x="25976" y="21600"/>
                </a:lnTo>
                <a:lnTo>
                  <a:pt x="24576" y="20200"/>
                </a:lnTo>
                <a:lnTo>
                  <a:pt x="24576" y="1400"/>
                </a:lnTo>
                <a:close/>
              </a:path>
              <a:path fill="darkenLess" w="25976" h="21600">
                <a:moveTo>
                  <a:pt x="259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76" y="20200"/>
                </a:lnTo>
                <a:close/>
              </a:path>
              <a:path fill="lighten" w="259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76" h="21600">
                <a:moveTo>
                  <a:pt x="5982" y="7493"/>
                </a:moveTo>
                <a:lnTo>
                  <a:pt x="9489" y="7493"/>
                </a:lnTo>
                <a:lnTo>
                  <a:pt x="9489" y="12828"/>
                </a:lnTo>
                <a:cubicBezTo>
                  <a:pt x="9489" y="13751"/>
                  <a:pt x="10290" y="14482"/>
                  <a:pt x="11326" y="14482"/>
                </a:cubicBezTo>
                <a:lnTo>
                  <a:pt x="12988" y="14482"/>
                </a:lnTo>
                <a:cubicBezTo>
                  <a:pt x="14024" y="14482"/>
                  <a:pt x="14825" y="13751"/>
                  <a:pt x="14825" y="12828"/>
                </a:cubicBezTo>
                <a:lnTo>
                  <a:pt x="14825" y="7493"/>
                </a:lnTo>
                <a:lnTo>
                  <a:pt x="12988" y="7493"/>
                </a:lnTo>
                <a:lnTo>
                  <a:pt x="16496" y="3985"/>
                </a:lnTo>
                <a:lnTo>
                  <a:pt x="20169" y="7493"/>
                </a:lnTo>
                <a:lnTo>
                  <a:pt x="18332" y="7493"/>
                </a:lnTo>
                <a:lnTo>
                  <a:pt x="18332" y="12828"/>
                </a:lnTo>
                <a:cubicBezTo>
                  <a:pt x="18332" y="15596"/>
                  <a:pt x="15756" y="18155"/>
                  <a:pt x="12988" y="18155"/>
                </a:cubicBezTo>
                <a:lnTo>
                  <a:pt x="11326" y="18155"/>
                </a:lnTo>
                <a:cubicBezTo>
                  <a:pt x="8558" y="18155"/>
                  <a:pt x="5982" y="15596"/>
                  <a:pt x="5982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457200" y="-17640"/>
            <a:ext cx="822960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TippKönig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1341360"/>
            <a:ext cx="914400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2360" y="76500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rnstufe 2 Spie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828720" y="1606680"/>
            <a:ext cx="3166920" cy="232704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0" y="6673680"/>
            <a:ext cx="3348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" spc="-1" strike="noStrike">
                <a:solidFill>
                  <a:srgbClr val="000000"/>
                </a:solidFill>
                <a:latin typeface="Arial"/>
              </a:rPr>
              <a:t>Tastschreiben in der Grundschule – MedienBildungsMesse 2005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3"/>
          <a:stretch/>
        </p:blipFill>
        <p:spPr>
          <a:xfrm>
            <a:off x="4788000" y="2276640"/>
            <a:ext cx="3457440" cy="340344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4"/>
          <a:stretch/>
        </p:blipFill>
        <p:spPr>
          <a:xfrm>
            <a:off x="828720" y="4292640"/>
            <a:ext cx="3166920" cy="218124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250920" y="6093000"/>
            <a:ext cx="433440" cy="360360"/>
          </a:xfrm>
          <a:custGeom>
            <a:avLst/>
            <a:gdLst>
              <a:gd name="textAreaLeft" fmla="*/ 23040 w 433440"/>
              <a:gd name="textAreaRight" fmla="*/ 410400 w 4334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976" h="21600">
                <a:moveTo>
                  <a:pt x="0" y="0"/>
                </a:moveTo>
                <a:lnTo>
                  <a:pt x="25976" y="0"/>
                </a:lnTo>
                <a:lnTo>
                  <a:pt x="25976" y="21600"/>
                </a:lnTo>
                <a:lnTo>
                  <a:pt x="0" y="21600"/>
                </a:lnTo>
                <a:close/>
              </a:path>
              <a:path fill="lightenLess" w="25976" h="21600">
                <a:moveTo>
                  <a:pt x="0" y="0"/>
                </a:moveTo>
                <a:lnTo>
                  <a:pt x="25976" y="0"/>
                </a:lnTo>
                <a:lnTo>
                  <a:pt x="24576" y="1400"/>
                </a:lnTo>
                <a:lnTo>
                  <a:pt x="1400" y="1400"/>
                </a:lnTo>
                <a:close/>
              </a:path>
              <a:path fill="darken" w="25976" h="21600">
                <a:moveTo>
                  <a:pt x="25976" y="0"/>
                </a:moveTo>
                <a:lnTo>
                  <a:pt x="25976" y="21600"/>
                </a:lnTo>
                <a:lnTo>
                  <a:pt x="24576" y="20200"/>
                </a:lnTo>
                <a:lnTo>
                  <a:pt x="24576" y="1400"/>
                </a:lnTo>
                <a:close/>
              </a:path>
              <a:path fill="darkenLess" w="25976" h="21600">
                <a:moveTo>
                  <a:pt x="259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76" y="20200"/>
                </a:lnTo>
                <a:close/>
              </a:path>
              <a:path fill="lighten" w="259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76" h="21600">
                <a:moveTo>
                  <a:pt x="5982" y="7493"/>
                </a:moveTo>
                <a:lnTo>
                  <a:pt x="9489" y="7493"/>
                </a:lnTo>
                <a:lnTo>
                  <a:pt x="9489" y="12828"/>
                </a:lnTo>
                <a:cubicBezTo>
                  <a:pt x="9489" y="13751"/>
                  <a:pt x="10290" y="14482"/>
                  <a:pt x="11326" y="14482"/>
                </a:cubicBezTo>
                <a:lnTo>
                  <a:pt x="12988" y="14482"/>
                </a:lnTo>
                <a:cubicBezTo>
                  <a:pt x="14024" y="14482"/>
                  <a:pt x="14825" y="13751"/>
                  <a:pt x="14825" y="12828"/>
                </a:cubicBezTo>
                <a:lnTo>
                  <a:pt x="14825" y="7493"/>
                </a:lnTo>
                <a:lnTo>
                  <a:pt x="12988" y="7493"/>
                </a:lnTo>
                <a:lnTo>
                  <a:pt x="16496" y="3985"/>
                </a:lnTo>
                <a:lnTo>
                  <a:pt x="20169" y="7493"/>
                </a:lnTo>
                <a:lnTo>
                  <a:pt x="18332" y="7493"/>
                </a:lnTo>
                <a:lnTo>
                  <a:pt x="18332" y="12828"/>
                </a:lnTo>
                <a:cubicBezTo>
                  <a:pt x="18332" y="15596"/>
                  <a:pt x="15756" y="18155"/>
                  <a:pt x="12988" y="18155"/>
                </a:cubicBezTo>
                <a:lnTo>
                  <a:pt x="11326" y="18155"/>
                </a:lnTo>
                <a:cubicBezTo>
                  <a:pt x="8558" y="18155"/>
                  <a:pt x="5982" y="15596"/>
                  <a:pt x="5982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457200" y="-17640"/>
            <a:ext cx="822960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TippKönig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1341360"/>
            <a:ext cx="914400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635280" y="76500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rnstufe 3 - 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324000" y="1557360"/>
            <a:ext cx="3887640" cy="295596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0" y="6673680"/>
            <a:ext cx="3348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" spc="-1" strike="noStrike">
                <a:solidFill>
                  <a:srgbClr val="000000"/>
                </a:solidFill>
                <a:latin typeface="Arial"/>
              </a:rPr>
              <a:t>Tastschreiben in der Grundschule – MedienBildungsMesse 2005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4572000" y="3284640"/>
            <a:ext cx="4248000" cy="3232080"/>
          </a:xfrm>
          <a:prstGeom prst="rect">
            <a:avLst/>
          </a:prstGeom>
          <a:ln w="0">
            <a:noFill/>
          </a:ln>
        </p:spPr>
      </p:pic>
      <p:sp>
        <p:nvSpPr>
          <p:cNvPr id="218" name="">
            <a:hlinkClick r:id="" action="ppaction://hlinkshowjump?jump=previousslide"/>
          </p:cNvPr>
          <p:cNvSpPr/>
          <p:nvPr/>
        </p:nvSpPr>
        <p:spPr>
          <a:xfrm>
            <a:off x="250920" y="6093000"/>
            <a:ext cx="433440" cy="360360"/>
          </a:xfrm>
          <a:custGeom>
            <a:avLst/>
            <a:gdLst>
              <a:gd name="textAreaLeft" fmla="*/ 23040 w 433440"/>
              <a:gd name="textAreaRight" fmla="*/ 410400 w 4334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976" h="21600">
                <a:moveTo>
                  <a:pt x="0" y="0"/>
                </a:moveTo>
                <a:lnTo>
                  <a:pt x="25976" y="0"/>
                </a:lnTo>
                <a:lnTo>
                  <a:pt x="25976" y="21600"/>
                </a:lnTo>
                <a:lnTo>
                  <a:pt x="0" y="21600"/>
                </a:lnTo>
                <a:close/>
              </a:path>
              <a:path fill="lightenLess" w="25976" h="21600">
                <a:moveTo>
                  <a:pt x="0" y="0"/>
                </a:moveTo>
                <a:lnTo>
                  <a:pt x="25976" y="0"/>
                </a:lnTo>
                <a:lnTo>
                  <a:pt x="24576" y="1400"/>
                </a:lnTo>
                <a:lnTo>
                  <a:pt x="1400" y="1400"/>
                </a:lnTo>
                <a:close/>
              </a:path>
              <a:path fill="darken" w="25976" h="21600">
                <a:moveTo>
                  <a:pt x="25976" y="0"/>
                </a:moveTo>
                <a:lnTo>
                  <a:pt x="25976" y="21600"/>
                </a:lnTo>
                <a:lnTo>
                  <a:pt x="24576" y="20200"/>
                </a:lnTo>
                <a:lnTo>
                  <a:pt x="24576" y="1400"/>
                </a:lnTo>
                <a:close/>
              </a:path>
              <a:path fill="darkenLess" w="25976" h="21600">
                <a:moveTo>
                  <a:pt x="259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76" y="20200"/>
                </a:lnTo>
                <a:close/>
              </a:path>
              <a:path fill="lighten" w="259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76" h="21600">
                <a:moveTo>
                  <a:pt x="5982" y="7493"/>
                </a:moveTo>
                <a:lnTo>
                  <a:pt x="9489" y="7493"/>
                </a:lnTo>
                <a:lnTo>
                  <a:pt x="9489" y="12828"/>
                </a:lnTo>
                <a:cubicBezTo>
                  <a:pt x="9489" y="13751"/>
                  <a:pt x="10290" y="14482"/>
                  <a:pt x="11326" y="14482"/>
                </a:cubicBezTo>
                <a:lnTo>
                  <a:pt x="12988" y="14482"/>
                </a:lnTo>
                <a:cubicBezTo>
                  <a:pt x="14024" y="14482"/>
                  <a:pt x="14825" y="13751"/>
                  <a:pt x="14825" y="12828"/>
                </a:cubicBezTo>
                <a:lnTo>
                  <a:pt x="14825" y="7493"/>
                </a:lnTo>
                <a:lnTo>
                  <a:pt x="12988" y="7493"/>
                </a:lnTo>
                <a:lnTo>
                  <a:pt x="16496" y="3985"/>
                </a:lnTo>
                <a:lnTo>
                  <a:pt x="20169" y="7493"/>
                </a:lnTo>
                <a:lnTo>
                  <a:pt x="18332" y="7493"/>
                </a:lnTo>
                <a:lnTo>
                  <a:pt x="18332" y="12828"/>
                </a:lnTo>
                <a:cubicBezTo>
                  <a:pt x="18332" y="15596"/>
                  <a:pt x="15756" y="18155"/>
                  <a:pt x="12988" y="18155"/>
                </a:cubicBezTo>
                <a:lnTo>
                  <a:pt x="11326" y="18155"/>
                </a:lnTo>
                <a:cubicBezTo>
                  <a:pt x="8558" y="18155"/>
                  <a:pt x="5982" y="15596"/>
                  <a:pt x="5982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d zum Schluss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noch e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Unter </a:t>
            </a:r>
            <a:r>
              <a:rPr b="0" lang="de-DE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sascha-friemel.de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können S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alle Unterlagen, auch die Präsent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herunterlade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Vielen Dank für Ihre Aufmerksamkeit </a:t>
            </a:r>
            <a:r>
              <a:rPr b="1" lang="de-DE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3"/>
          <a:stretch/>
        </p:blipFill>
        <p:spPr>
          <a:xfrm>
            <a:off x="2843280" y="1268280"/>
            <a:ext cx="1293840" cy="151308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0" y="6673680"/>
            <a:ext cx="3348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" spc="-1" strike="noStrike">
                <a:solidFill>
                  <a:srgbClr val="000000"/>
                </a:solidFill>
                <a:latin typeface="Arial"/>
              </a:rPr>
              <a:t>Tastschreiben in der Grundschule – MedienBildungsMesse 2005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951" dur="indefinite" restart="never" nodeType="tmRoot">
          <p:childTnLst>
            <p:seq>
              <p:cTn id="952" dur="indefinite" nodeType="mainSeq">
                <p:childTnLst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6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7" dur="5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0" dur="500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3" dur="500"/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8" dur="500"/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708000" y="1483920"/>
            <a:ext cx="54356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ntwickelt von Beate Dö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eignet für Schüler ab 6 Jah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mfasst 30 Lektio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chülernahe Wörter und 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ystemvoraussetzung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Win98/Me/2000/X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PII mit 500MH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128 M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Soundkarte und CD-R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WinDactylo"/>
          <p:cNvPicPr/>
          <p:nvPr/>
        </p:nvPicPr>
        <p:blipFill>
          <a:blip r:embed="rId2"/>
          <a:stretch/>
        </p:blipFill>
        <p:spPr>
          <a:xfrm>
            <a:off x="1763640" y="44280"/>
            <a:ext cx="5616720" cy="8384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324000" y="1700280"/>
            <a:ext cx="316836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0" y="1341360"/>
            <a:ext cx="914400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1908000" y="692280"/>
            <a:ext cx="5351760" cy="5983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324000" y="4221000"/>
            <a:ext cx="3168360" cy="20145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0" y="6673680"/>
            <a:ext cx="3348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" spc="-1" strike="noStrike">
                <a:solidFill>
                  <a:srgbClr val="000000"/>
                </a:solidFill>
                <a:latin typeface="Arial"/>
              </a:rPr>
              <a:t>Tastschreiben in der Grundschule – MedienBildungsMesse 2005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3669840" y="1628280"/>
            <a:ext cx="5473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nzelplatz und netzwerkfähi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elfältige Hilfen und didaktische Anregu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gene Texte können eingegeben und geübt we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usätzliche Motivation durch Geschicklichkeitsspie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ullizenz 79,- €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nzelklassenlizenz 45,- 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WinDactylo"/>
          <p:cNvPicPr/>
          <p:nvPr/>
        </p:nvPicPr>
        <p:blipFill>
          <a:blip r:embed="rId2"/>
          <a:stretch/>
        </p:blipFill>
        <p:spPr>
          <a:xfrm>
            <a:off x="1763640" y="44280"/>
            <a:ext cx="5616720" cy="8384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341360"/>
            <a:ext cx="914400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1908000" y="692280"/>
            <a:ext cx="5351760" cy="5983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324000" y="1700280"/>
            <a:ext cx="3168360" cy="20048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>
            <a:off x="324000" y="4226040"/>
            <a:ext cx="3168360" cy="20113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0" y="6673680"/>
            <a:ext cx="3348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" spc="-1" strike="noStrike">
                <a:solidFill>
                  <a:srgbClr val="000000"/>
                </a:solidFill>
                <a:latin typeface="Arial"/>
              </a:rPr>
              <a:t>Tastschreiben in der Grundschule – MedienBildungsMesse 2005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611280" y="1700280"/>
            <a:ext cx="2863800" cy="41767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0" y="1341360"/>
            <a:ext cx="914400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3708000" y="1773360"/>
            <a:ext cx="543564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ardware“ (Buch) 96 Sei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tor: Egon Wiene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rschienen im Wolf Verl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um Preis von 12,90 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ür Schüler von 9 bis 12 Jah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astschreiben und Grundlagen des Textverarbeitungsprogramms Word erler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ute Kennzeichnung der Aufgaben und Übungen durch Symb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189000"/>
            <a:ext cx="30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Kristen ITC"/>
              </a:rPr>
              <a:t>Tastenblitz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798640" y="911160"/>
            <a:ext cx="424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Tastschreiben mit Word für Kin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6673680"/>
            <a:ext cx="3348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" spc="-1" strike="noStrike">
                <a:solidFill>
                  <a:srgbClr val="000000"/>
                </a:solidFill>
                <a:latin typeface="Arial"/>
              </a:rPr>
              <a:t>Tastschreiben in der Grundschule – MedienBildungsMesse 2005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1341360"/>
            <a:ext cx="914400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788000" y="1412640"/>
            <a:ext cx="403848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u allen Aufgaben gibt es Lösungshinwe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olgende Funktionen werden erklärt und mit Arbeitsaufträgen untermauer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Bedienen der Ma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Auswählen von Seitenrändern, Schriftarten und Schriftgröß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Rechtschreibprüf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Speichern und druc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Sonderzeic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Word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Tabellenfunk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Tabstop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6673680"/>
            <a:ext cx="3348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" spc="-1" strike="noStrike">
                <a:solidFill>
                  <a:srgbClr val="000000"/>
                </a:solidFill>
                <a:latin typeface="Arial"/>
              </a:rPr>
              <a:t>Tastschreiben in der Grundschule – MedienBildungsMesse 2005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76720" y="189000"/>
            <a:ext cx="30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Kristen ITC"/>
              </a:rPr>
              <a:t>Tastenblitz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798640" y="911160"/>
            <a:ext cx="424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Tastschreiben mit Word für Kin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68360" y="1484280"/>
            <a:ext cx="3673440" cy="4896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1341360"/>
            <a:ext cx="914400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826920" y="1484280"/>
            <a:ext cx="1872000" cy="23763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826920" y="4005360"/>
            <a:ext cx="1859040" cy="266364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3708000" y="1483920"/>
            <a:ext cx="54356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asiert auf dem Bestseller-Kurs „Goldfinger 4“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arbenfrohe und ansprechende Gestalt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ügiger Einsatz aller 10 Fin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ktattexte aus „Die drei ???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ystemvoraussetzung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Win98/Me/2000/XP/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Pentium 166MH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32 M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Soundkarte und CD-R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6673680"/>
            <a:ext cx="3348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" spc="-1" strike="noStrike">
                <a:solidFill>
                  <a:srgbClr val="000000"/>
                </a:solidFill>
                <a:latin typeface="Arial"/>
              </a:rPr>
              <a:t>Tastschreiben in der Grundschule – MedienBildungsMesse 2005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916360" y="228600"/>
            <a:ext cx="352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ff"/>
                </a:solidFill>
                <a:latin typeface="Kristen ITC"/>
              </a:rPr>
              <a:t>Goldfing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rot="20406600">
            <a:off x="5229360" y="617040"/>
            <a:ext cx="134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risten ITC"/>
              </a:rPr>
              <a:t>Juni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1341360"/>
            <a:ext cx="914400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3708000" y="1483920"/>
            <a:ext cx="54356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ernstatistik über Zeitaufwand und Lernfortschrit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gene Texte können eingegeben und geübt we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ahlweise deutsche, amerikanische oder schweizer Tastat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usätzliche Motivation durch Geschicklichkeitsspi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eis: 16,99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zugsquelle: </a:t>
            </a:r>
            <a:r>
              <a:rPr b="0" lang="de-DE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usm.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826920" y="1484280"/>
            <a:ext cx="1872000" cy="23763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826920" y="4005360"/>
            <a:ext cx="1859040" cy="26636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0" y="6673680"/>
            <a:ext cx="3348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" spc="-1" strike="noStrike">
                <a:solidFill>
                  <a:srgbClr val="000000"/>
                </a:solidFill>
                <a:latin typeface="Arial"/>
              </a:rPr>
              <a:t>Tastschreiben in der Grundschule – MedienBildungsMesse 2005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916360" y="228600"/>
            <a:ext cx="352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ff"/>
                </a:solidFill>
                <a:latin typeface="Kristen ITC"/>
              </a:rPr>
              <a:t>Goldfing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rot="20406600">
            <a:off x="5229360" y="617040"/>
            <a:ext cx="134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risten ITC"/>
              </a:rPr>
              <a:t>Juni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18000"/>
            <a:ext cx="82296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0-Finger-Tastschreiben-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iellascrip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140000" y="1628640"/>
            <a:ext cx="454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rn-/Memokarte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arbeitung der Tasten und Tastbewegungen zuerst auf mentaler Eb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ch jedem Lernabschnitt sollte eine praktische Übung fol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ch erst reine mentale Erarbeitungen mit anschließenden praktischen Übungen mögli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341360"/>
            <a:ext cx="914400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24000" y="1916280"/>
            <a:ext cx="1449360" cy="19443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0" y="6673680"/>
            <a:ext cx="3348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" spc="-1" strike="noStrike">
                <a:solidFill>
                  <a:srgbClr val="000000"/>
                </a:solidFill>
                <a:latin typeface="Arial"/>
              </a:rPr>
              <a:t>Tastschreiben in der Grundschule – MedienBildungsMesse 2005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708360" y="76500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ine Übersic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2268360" y="1557360"/>
            <a:ext cx="1729080" cy="16732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324000" y="4365720"/>
            <a:ext cx="1584000" cy="13586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5"/>
          <a:stretch/>
        </p:blipFill>
        <p:spPr>
          <a:xfrm>
            <a:off x="2411280" y="3500280"/>
            <a:ext cx="1368720" cy="13096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6"/>
          <a:stretch/>
        </p:blipFill>
        <p:spPr>
          <a:xfrm>
            <a:off x="2124000" y="5013360"/>
            <a:ext cx="1905120" cy="10285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2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2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2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06:58:03Z</dcterms:created>
  <dc:creator>Sascha Friemel</dc:creator>
  <dc:description/>
  <dc:language>en-US</dc:language>
  <cp:lastModifiedBy>Friemel</cp:lastModifiedBy>
  <dcterms:modified xsi:type="dcterms:W3CDTF">2005-06-18T10:52:22Z</dcterms:modified>
  <cp:revision>160</cp:revision>
  <dc:subject/>
  <dc:title>Tastschreiben in der Grundschule</dc:title>
</cp:coreProperties>
</file>