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58.png" ContentType="image/png"/>
  <Override PartName="/ppt/media/image20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29.png" ContentType="image/png"/>
  <Override PartName="/ppt/media/image32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2.png" ContentType="image/png"/>
  <Override PartName="/ppt/media/image41.jpeg" ContentType="image/jpeg"/>
  <Override PartName="/ppt/media/image44.png" ContentType="image/png"/>
  <Override PartName="/ppt/media/image47.png" ContentType="image/png"/>
  <Override PartName="/ppt/media/image12.png" ContentType="image/png"/>
  <Override PartName="/ppt/media/image48.jpeg" ContentType="image/jpeg"/>
  <Override PartName="/ppt/media/image53.png" ContentType="image/png"/>
  <Override PartName="/ppt/media/image54.jpeg" ContentType="image/jpeg"/>
  <Override PartName="/ppt/media/image39.wmf" ContentType="image/x-wmf"/>
  <Override PartName="/ppt/media/image52.jpeg" ContentType="image/jpeg"/>
  <Override PartName="/ppt/media/image8.png" ContentType="image/png"/>
  <Override PartName="/ppt/media/image55.png" ContentType="image/png"/>
  <Override PartName="/ppt/media/image40.png" ContentType="image/png"/>
  <Override PartName="/ppt/media/image38.wmf" ContentType="image/x-wmf"/>
  <Override PartName="/ppt/media/image45.wmf" ContentType="image/x-wmf"/>
  <Override PartName="/ppt/media/image10.wmf" ContentType="image/x-wmf"/>
  <Override PartName="/ppt/media/image46.png" ContentType="image/png"/>
  <Override PartName="/ppt/media/image57.jpeg" ContentType="image/jpeg"/>
  <Override PartName="/ppt/media/image31.wmf" ContentType="image/x-wmf"/>
  <Override PartName="/ppt/media/image11.png" ContentType="image/png"/>
  <Override PartName="/ppt/media/image43.jpeg" ContentType="image/jpeg"/>
  <Override PartName="/ppt/media/image35.png" ContentType="image/png"/>
  <Override PartName="/ppt/media/image37.wmf" ContentType="image/x-wmf"/>
  <Override PartName="/ppt/media/image30.jpeg" ContentType="image/jpeg"/>
  <Override PartName="/ppt/media/image50.jpeg" ContentType="image/jpeg"/>
  <Override PartName="/ppt/media/image13.wmf" ContentType="image/x-wmf"/>
  <Override PartName="/ppt/media/image9.png" ContentType="image/png"/>
  <Override PartName="/ppt/media/image56.png" ContentType="image/png"/>
  <Override PartName="/ppt/media/image17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579-1A39-424B-B271-81056355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D94-3405-4BBF-AE52-930A6A4B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564-463C-45FD-89CD-15DB2C98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F4D-7C62-4C6E-971B-648C1CD5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3F8-AC9F-4288-AA01-22E1B2A9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04F-8307-4DBD-AC4F-AA3C32B7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4D0-6A1A-4B37-BA22-095A3395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870-F5F7-4218-AB32-593DFC33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054920" cy="43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A33-33CE-48A8-883E-5E424CDC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973-109A-4059-94F4-20318CBD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E38-2665-4D24-99C7-615D1F85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B72-5A6B-4D4C-A034-D9A4594C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A96C-DF40-4FEA-A953-774A935458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5520" y="189000"/>
            <a:ext cx="600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MedienBildungsMesse für Grundschulen und Förderschu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476280"/>
            <a:ext cx="324000" cy="3168720"/>
            <a:chOff x="0" y="476280"/>
            <a:chExt cx="324000" cy="3168720"/>
          </a:xfrm>
        </p:grpSpPr>
        <p:sp>
          <p:nvSpPr>
            <p:cNvPr id="7" name=""/>
            <p:cNvSpPr/>
            <p:nvPr/>
          </p:nvSpPr>
          <p:spPr>
            <a:xfrm>
              <a:off x="0" y="1181160"/>
              <a:ext cx="324000" cy="351720"/>
            </a:xfrm>
            <a:prstGeom prst="rect">
              <a:avLst/>
            </a:prstGeom>
            <a:solidFill>
              <a:srgbClr val="d84041"/>
            </a:solidFill>
            <a:ln w="9360">
              <a:solidFill>
                <a:srgbClr val="d84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886040"/>
              <a:ext cx="324000" cy="351720"/>
            </a:xfrm>
            <a:prstGeom prst="rect">
              <a:avLst/>
            </a:prstGeom>
            <a:solidFill>
              <a:srgbClr val="d84041"/>
            </a:solidFill>
            <a:ln w="9360">
              <a:solidFill>
                <a:srgbClr val="d84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2591280"/>
              <a:ext cx="324000" cy="351720"/>
            </a:xfrm>
            <a:prstGeom prst="rect">
              <a:avLst/>
            </a:prstGeom>
            <a:solidFill>
              <a:srgbClr val="d84041"/>
            </a:solidFill>
            <a:ln w="9360">
              <a:solidFill>
                <a:srgbClr val="d84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476280"/>
              <a:ext cx="324000" cy="351720"/>
            </a:xfrm>
            <a:prstGeom prst="rect">
              <a:avLst/>
            </a:prstGeom>
            <a:solidFill>
              <a:srgbClr val="d84041"/>
            </a:solidFill>
            <a:ln w="9360">
              <a:solidFill>
                <a:srgbClr val="d84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3293280"/>
              <a:ext cx="324000" cy="351720"/>
            </a:xfrm>
            <a:prstGeom prst="rect">
              <a:avLst/>
            </a:prstGeom>
            <a:solidFill>
              <a:srgbClr val="d84041"/>
            </a:solidFill>
            <a:ln w="9360">
              <a:solidFill>
                <a:srgbClr val="d84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885080" y="189000"/>
            <a:ext cx="1009800" cy="136836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Schule @ Zukunft"/>
          <p:cNvPicPr/>
          <p:nvPr/>
        </p:nvPicPr>
        <p:blipFill>
          <a:blip r:embed="rId3"/>
          <a:stretch/>
        </p:blipFill>
        <p:spPr>
          <a:xfrm>
            <a:off x="3733920" y="6386400"/>
            <a:ext cx="1414440" cy="2826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165800" y="6165720"/>
            <a:ext cx="574920" cy="64800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5"/>
          <a:stretch/>
        </p:blipFill>
        <p:spPr>
          <a:xfrm>
            <a:off x="1189080" y="6137280"/>
            <a:ext cx="619200" cy="60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.pn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de-DE" sz="4200" spc="-1" strike="noStrike">
                <a:solidFill>
                  <a:srgbClr val="333399"/>
                </a:solidFill>
                <a:latin typeface="Arial"/>
              </a:rPr>
              <a:t>edien</a:t>
            </a:r>
            <a:r>
              <a:rPr b="1" lang="de-DE" sz="4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4200" spc="-1" strike="noStrike">
                <a:solidFill>
                  <a:srgbClr val="333399"/>
                </a:solidFill>
                <a:latin typeface="Arial"/>
              </a:rPr>
              <a:t>ildungs</a:t>
            </a:r>
            <a:r>
              <a:rPr b="1" lang="de-DE" sz="42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de-DE" sz="4200" spc="-1" strike="noStrike">
                <a:solidFill>
                  <a:srgbClr val="333399"/>
                </a:solidFill>
                <a:latin typeface="Arial"/>
              </a:rPr>
              <a:t>esse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2000" y="3456000"/>
            <a:ext cx="6440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ür Grund- und Förderschul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8.30 Uhr – 9.45 Uh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nmeldung, Ausgabe der Materialien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Stehkaffee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Messe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0.00 Uh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Begrüßung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10.10 Uh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Eröffnung durch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Frau Wiltrud Lortz,</a:t>
            </a:r>
            <a:br>
              <a:rPr sz="2600"/>
            </a:b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Ministerialrätin im Hessischen Kultusministerium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Herrn Rudolf Peschke,</a:t>
            </a:r>
            <a:br>
              <a:rPr sz="2600"/>
            </a:b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Ministerialrat im Hessischen Kultusministe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8563" r="17741" b="5661"/>
          <a:stretch/>
        </p:blipFill>
        <p:spPr>
          <a:xfrm>
            <a:off x="7493040" y="2924280"/>
            <a:ext cx="1400040" cy="2160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0.30 Uhr - 11.15 Uh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Vortrag von Prof. Dr. Andreas Breiter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Integration digitaler Medien in den Schulalltag –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Medienentwicklungsplanung, </a:t>
            </a:r>
            <a:br>
              <a:rPr sz="2200"/>
            </a:b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Mediennutzung und </a:t>
            </a:r>
            <a:br>
              <a:rPr sz="2200"/>
            </a:b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Bewertung“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geboren 1968 in Frankfurt am Main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2000: Promotion zum Dr.-Ing. am Fachbereich Mathematik und Informatik an der Universität Bremen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eit 2003: Leiter der Abteilung Bildung </a:t>
            </a:r>
            <a:br>
              <a:rPr sz="2200"/>
            </a:b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und Mitglied der Institutsleitung des </a:t>
            </a:r>
            <a:br>
              <a:rPr sz="2200"/>
            </a:b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Instituts für Informationsmanagement Bremen GmbH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eit 2004: Juniorprofessor für </a:t>
            </a:r>
            <a:br>
              <a:rPr sz="2200"/>
            </a:b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„Informations- und Wissensmanagement in der Bildung“ an der Universität Bremen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weitere Informationen online unter:     </a:t>
            </a:r>
            <a:r>
              <a:rPr b="0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http://www.ifib.de/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f. Dr. Andreas Breite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1.30 Uhr – 12.15 Uh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Workshoprunde 1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2.15 Uhr – 14.15 Uh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Mittagessen – für Sie kostenlos!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Menü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tengeschnetzeltes „Züricher Art“ mit Mischgemüse und Spätz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Menü 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paghetti mit Tomaten-Basilikum-Soße und Sal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Messe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4.15 Uhr – 15.00 Uh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Workshoprunde 2</a:t>
            </a:r>
            <a:br>
              <a:rPr sz="2600"/>
            </a:b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5.15 Uhr – 16.00 Uh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Workshoprunde 3</a:t>
            </a:r>
            <a:br>
              <a:rPr sz="2600"/>
            </a:b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b 16.00 Uh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mbis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Musik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Tombola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herzlich willkommen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45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 Frankfurt am 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7280" y="1773360"/>
            <a:ext cx="439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GBO-Bigband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r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Modellschule Obersberg,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Bad Hersfeld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2665440" cy="2246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us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mbola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Bitte geben Sie Ihren ausgefüllten Fragebogen ab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und nehmen Sie an der Verlosung teil.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ttraktive Sachpreise warten auf Sie!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17.00 Uh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Ende der </a:t>
            </a: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edien</a:t>
            </a: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ildungs</a:t>
            </a: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esse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weitere Materialien zur Mes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finden Sie online unter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http://medien.bildung.hessen.de/mbm05/w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1898640" cy="2279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-LAN HOT SPO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Haben Sie ein W-LAN-fähiges Gerät mit?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Gehen Sie hier online!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ie IP-Adresse wird automatisch vergeben. 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xy-Einstellungen: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proxy.edv.lsbh.de 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Unterstützung erhalten Sie im Tagungsbüro.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15328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Bitte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während der Vorträge sowie der Workshop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as Handy ausschalten!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anke </a:t>
            </a:r>
            <a:r>
              <a:rPr b="0" lang="en-US" sz="26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516720" y="2781360"/>
          <a:ext cx="160956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781360"/>
                    <a:ext cx="160956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43640" y="2997360"/>
            <a:ext cx="1944720" cy="208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588000" y="2852640"/>
            <a:ext cx="1152720" cy="244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Messe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s erwarten Si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77080" y="3141720"/>
            <a:ext cx="974520" cy="776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0" t="0" r="8180" b="-194"/>
          <a:stretch/>
        </p:blipFill>
        <p:spPr>
          <a:xfrm>
            <a:off x="6905520" y="1752480"/>
            <a:ext cx="979560" cy="596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ssestände / Sponsor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Amt für Lehrerbildung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afl.bildung.hessen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Budenberg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budenberg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Capito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capito.homepage.t-online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3" name="cap" descr=""/>
          <p:cNvPicPr/>
          <p:nvPr/>
        </p:nvPicPr>
        <p:blipFill>
          <a:blip r:embed="rId3"/>
          <a:stretch/>
        </p:blipFill>
        <p:spPr>
          <a:xfrm>
            <a:off x="6808680" y="4629240"/>
            <a:ext cx="1076400" cy="6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81760" y="1676520"/>
            <a:ext cx="990720" cy="581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72360" y="3141720"/>
            <a:ext cx="1512720" cy="669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877080" y="4508640"/>
            <a:ext cx="920880" cy="685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ssestände / Sponsor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CES-Verlag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ces-verlag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CoTec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cotec-verlag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Digital Learnware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digital-learnware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516720" y="1984320"/>
            <a:ext cx="1295280" cy="581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827680" y="5157720"/>
            <a:ext cx="2057400" cy="436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72360" y="3933720"/>
            <a:ext cx="152388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. Schö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ssestände / Sponsor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r. Kaiser, PC - Wächterkarten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dr-kaiser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Fahrradwelt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aktives Programm zur Verkehrserziehu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rms-fahrradwelt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Finken Verlag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finken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20. Juni 2005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Sportschule des Landessportbundes Hessen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Otto-Fleck-Schneise 4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60528 Frankfurt am Main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91280" y="3213000"/>
            <a:ext cx="2376360" cy="20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48360" y="3068640"/>
            <a:ext cx="846360" cy="676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0" t="0" r="3850" b="0"/>
          <a:stretch/>
        </p:blipFill>
        <p:spPr>
          <a:xfrm>
            <a:off x="6227640" y="1916280"/>
            <a:ext cx="1609920" cy="745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ssestände / Sponsor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fraline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fraline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FWU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fwu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GIDA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gida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86364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GUT / GUTL  Rechtschreibphänomene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gut1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Hessen-Atla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lernarchiv.bildung.hessen.de/archiv/hessenatla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Hessische Landesanstalt für privaten Rundfunk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lpr-hessen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02520" y="2276640"/>
            <a:ext cx="158256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H. Bog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08640" y="5013360"/>
            <a:ext cx="1576440" cy="590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ssestände / Sponsor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Hessischer Kompass für Bildungssoftware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medien.bildung.hessen.de/kompas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Hessischer Rundfunk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hr-online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Intel II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medien.bildung.hessen.de/i2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093080" y="2205000"/>
            <a:ext cx="942840" cy="828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588000" y="3357720"/>
            <a:ext cx="1295640" cy="55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084720" y="4581360"/>
            <a:ext cx="1828800" cy="552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ssestände / Sponsor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ntel I und II - herausragende Projekte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intel-lehren.ne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Jugendschutz @ Internet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jugendschutz.bildung.hessen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Katholisches Filmwerk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filmwerk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40360" y="2179800"/>
            <a:ext cx="1947960" cy="601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236000" y="4292640"/>
            <a:ext cx="669600" cy="1019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372360" y="3500280"/>
            <a:ext cx="154944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V. Rüddig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ssestände / Sponsor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516720" y="1989000"/>
            <a:ext cx="1384200" cy="590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084720" y="3357720"/>
            <a:ext cx="1828800" cy="609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G. Käber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. Steigerwa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ssestände / Sponsor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Klett-Verlag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klett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Lani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help.bildung.hessen.de/support/lani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LEGO MINDSTORM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technik-lpe.info/LEG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581800" y="4533840"/>
            <a:ext cx="2303280" cy="55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LUQ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Neue Medien im Unterricht –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Fortbildungsangebote des Projektverbundes LUQ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Matthias-Film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gemeinnützige GmbH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matthias-film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Medienprofile:</a:t>
            </a:r>
            <a:br>
              <a:rPr sz="2600"/>
            </a:b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Gewinner Medienschulen Hessen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medien.bildung.hessen.de/profil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59640" y="3789360"/>
            <a:ext cx="1235160" cy="600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467480" y="1676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1844640"/>
            <a:ext cx="152388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. Blän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rcRect l="0" t="0" r="5549" b="0"/>
          <a:stretch/>
        </p:blipFill>
        <p:spPr>
          <a:xfrm>
            <a:off x="6373800" y="5373720"/>
            <a:ext cx="1511280" cy="5554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ssestände / Sponsor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72360" y="2852640"/>
            <a:ext cx="1503360" cy="547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77080" y="1844640"/>
            <a:ext cx="990720" cy="668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659640" y="4437000"/>
            <a:ext cx="1218960" cy="496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ssestände / Sponsor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Medienzentren Hessen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medienzentren.bildung.hessen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Microsoft Bildungsportal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microsoft.com/germany/bildung/schul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Mildenberger Verlag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mildenberger-verlag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Pearson Education / Markt + Technik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pearsoned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mut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Rehakomm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rehakomm.de/mambo/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Renaissance Learning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renlearn.co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56360" y="5011560"/>
            <a:ext cx="1655640" cy="362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219640" y="2349360"/>
            <a:ext cx="990720" cy="586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516720" y="2340000"/>
            <a:ext cx="1295280" cy="657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948360" y="3500280"/>
            <a:ext cx="835200" cy="7718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ssestände / Sponsor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300720" y="2193840"/>
            <a:ext cx="1440000" cy="39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605640" y="2981160"/>
            <a:ext cx="1062000" cy="954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724360" y="4203720"/>
            <a:ext cx="2032200" cy="8431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ssestände - </a:t>
            </a:r>
            <a:r>
              <a:rPr b="0" lang="en-US" sz="3500" spc="-1" strike="noStrike">
                <a:solidFill>
                  <a:srgbClr val="333399"/>
                </a:solidFill>
                <a:latin typeface="Arial"/>
              </a:rPr>
              <a:t>Schulbuchverlage</a:t>
            </a:r>
            <a:endParaRPr b="1" lang="en-US" sz="3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Diesterweg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diesterweg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Schroedel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schroedel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Westermann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westermann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Schulen ans Netz / eTwinning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schulen-ans-netz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etwinning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Schulserver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schule.bildung.hessen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Siequ@ - Die Schulen des Projekt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ttp://www.lbs.weschnitztal.de/siequ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732720" y="2278080"/>
            <a:ext cx="1066680" cy="646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932360" y="2379600"/>
            <a:ext cx="1295280" cy="544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093080" y="3357720"/>
            <a:ext cx="633240" cy="785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rcRect l="0" t="0" r="14206" b="0"/>
          <a:stretch/>
        </p:blipFill>
        <p:spPr>
          <a:xfrm>
            <a:off x="7021440" y="4865760"/>
            <a:ext cx="719280" cy="7952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ssestände / Sponsor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Veranstaltung der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Fachberater/innen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für Grundschulen und neue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Medien der Staatlichen Schulämter Hessen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 Kooperation mit dem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Amt für Lehrerbildung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und dem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Hessischen Kultusministerium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372360" y="1844640"/>
            <a:ext cx="1371600" cy="650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443640" y="3121200"/>
            <a:ext cx="1295280" cy="668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ssestände / Sponsor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martboard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smartboard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ZARB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zarb.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eitere Messestän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1773360"/>
          <a:ext cx="7772400" cy="3782880"/>
        </p:xfrm>
        <a:graphic>
          <a:graphicData uri="http://schemas.openxmlformats.org/drawingml/2006/table">
            <a:tbl>
              <a:tblPr/>
              <a:tblGrid>
                <a:gridCol w="6019920"/>
                <a:gridCol w="1752480"/>
              </a:tblGrid>
              <a:tr h="12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ilinguales Lernen On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ttp://lernen.bildung.hessen.de/biling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. Wend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mputerexpert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. Bau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igenfibel im Intran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. R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. Zirn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ssestän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84360" y="1773360"/>
          <a:ext cx="8381880" cy="5110200"/>
        </p:xfrm>
        <a:graphic>
          <a:graphicData uri="http://schemas.openxmlformats.org/drawingml/2006/table">
            <a:tbl>
              <a:tblPr/>
              <a:tblGrid>
                <a:gridCol w="6248160"/>
                <a:gridCol w="2133720"/>
              </a:tblGrid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reffpunkt Förderschulen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nderpädagogische Förderu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ttp://foerderschule.bildung.hessen.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. Howi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. N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e Hellerhofschule präsentiert sic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ttp://www.schulserver.hessen.de/frankfurt/hellerh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. von Au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ernet –  praktische und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eoretische Aufbereitu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K. Weitz –</a:t>
                      </a:r>
                      <a:br>
                        <a:rPr sz="1600"/>
                      </a:b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. Leup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. Mon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685800" y="1670040"/>
          <a:ext cx="8381880" cy="5046840"/>
        </p:xfrm>
        <a:graphic>
          <a:graphicData uri="http://schemas.openxmlformats.org/drawingml/2006/table">
            <a:tbl>
              <a:tblPr/>
              <a:tblGrid>
                <a:gridCol w="6400800"/>
                <a:gridCol w="1981080"/>
              </a:tblGrid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beit mit Mediator</a:t>
                      </a:r>
                      <a:r>
                        <a:rPr b="0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 einer Grundschu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K. Hutz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Karb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fa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ultimediale Präsentation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m Unterricht / Schulle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. Schmidt-       Bierm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edienbildung in regionalen</a:t>
                      </a:r>
                      <a:br>
                        <a:rPr sz="2600"/>
                      </a:b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Schulverbünden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 Beispiel des Staatlichen Schulamtes Kas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. Ger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. Kesseme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ssestän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3808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333399"/>
                </a:solidFill>
                <a:latin typeface="Arial"/>
              </a:rPr>
              <a:t>Herzlichen Dank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333399"/>
                </a:solidFill>
                <a:latin typeface="Arial"/>
              </a:rPr>
              <a:t>an alle Mitwirkenden</a:t>
            </a:r>
            <a:r>
              <a:rPr b="0" lang="de-DE" sz="4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die zum Gelingen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der </a:t>
            </a: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edien</a:t>
            </a: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ildungs</a:t>
            </a: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esse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beitragen!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ir wünschen Ihnen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iel Spaß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owie viele neue Impulse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nd regen Austausch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hre Fachberater/innen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rundschule und neue Medien der Staatlichen Schulämt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Haben Sie Fragen?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Wir sind für Sie da: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333399"/>
                </a:solidFill>
                <a:latin typeface="Arial"/>
              </a:rPr>
              <a:t>Tagungsbüro: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Michael Finselbac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0172 – 13 60 51 7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425600" y="2637000"/>
            <a:ext cx="22096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Messe: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elmut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chmidt-Bierman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221796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Workshops: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olfgang Böh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0170 – 35 08 10 4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87280" y="2732040"/>
            <a:ext cx="26607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weitere Materialien zur Mes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finden Sie online unter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http://medien.bildung.hessen.de/mbm05/w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Technik: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ünter Howin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0176 – 23 14 12 34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7793" t="9250" r="13753" b="19802"/>
          <a:stretch/>
        </p:blipFill>
        <p:spPr>
          <a:xfrm>
            <a:off x="5292720" y="2421000"/>
            <a:ext cx="244944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Presse / Medien: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orothea Nol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0174 – 91 78 27 1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8729" t="2814" r="0" b="8581"/>
          <a:stretch/>
        </p:blipFill>
        <p:spPr>
          <a:xfrm>
            <a:off x="1258920" y="2494080"/>
            <a:ext cx="25020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uch-TIPP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Bestellen Sie heute am AfL-Stand: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Der Computer auf dem Weg in d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Unterrichtsalltag der Grundschule</a:t>
            </a: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Erste Hilfe“ für Einsteiger – Anregungen und Projektideen für Anwend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Best.-Nr.: 02037                     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Preis: 7,- €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halt des Buches: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7730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er Computer: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ein Werkzeug mit vielen Nutzungsmöglichkeite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Kreatives Schreiben am PC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PC als Schreibwerkzeug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chtschreibtraining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Homepage und Internet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PC als Spiel- und Spaßgerät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Sachunterricht: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orschen und Beobachten im Netz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Vorhang auf für eine „Blinde Kuh“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Teddy Bear Projects im Englischunterrich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Wie frühstückt die Welt?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Ein Affe, der beim Rechnen hilft</a:t>
            </a:r>
            <a:r>
              <a:rPr b="0" lang="de-DE" sz="17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Angebote zur Leseförderung: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Lesen mit „Antolin“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Lernsoftware „Lernwerkstatt“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Schreiben lernen mit dem „Schreiblabor“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Computer im Tages- und Wochenpla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Unterrichtsvorbereitung mit dem Internet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Wegweiser durch das Grundschulporta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Best.-Nr.: 02037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Preis:       7,- €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lieferbar ab August 2005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rcRect l="0" t="0" r="0" b="10194"/>
          <a:stretch/>
        </p:blipFill>
        <p:spPr>
          <a:xfrm>
            <a:off x="1835280" y="2430360"/>
            <a:ext cx="5398920" cy="3637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essischer Bildungsserve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http://www.bildung.hessen.de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025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ildungsserver - Communit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Es gibt </a:t>
            </a: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Angebote </a:t>
            </a: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auf dem hessischen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Bildungsserver </a:t>
            </a: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exklusiv für Lehrer/innen</a:t>
            </a: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Onlinezugang zu</a:t>
            </a: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 Arbeitsgruppen</a:t>
            </a: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 im geschlossenen Bereich</a:t>
            </a:r>
            <a:br>
              <a:rPr sz="2600"/>
            </a:b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Zugriff auf</a:t>
            </a: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 MP3-Dateien</a:t>
            </a:r>
            <a:r>
              <a:rPr b="0" lang="de-DE" sz="2600" spc="-1" strike="noStrike">
                <a:solidFill>
                  <a:srgbClr val="333399"/>
                </a:solidFill>
                <a:latin typeface="Arial"/>
              </a:rPr>
              <a:t> der Wissenswert-sendungen des hessischen Rundfunks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Sind Sie schon Mitglied </a:t>
            </a:r>
            <a:br>
              <a:rPr sz="4200"/>
            </a:b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in der Community?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4152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333399"/>
                </a:solidFill>
                <a:latin typeface="Arial"/>
              </a:rPr>
              <a:t>Melden Sie sich an: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Arial"/>
              </a:rPr>
              <a:t>http://portal.bildung.hessen.de/service/community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>
            <a:lum contrast="42000"/>
          </a:blip>
          <a:srcRect l="0" t="6580" r="730" b="0"/>
          <a:stretch/>
        </p:blipFill>
        <p:spPr>
          <a:xfrm>
            <a:off x="468360" y="1700280"/>
            <a:ext cx="8532720" cy="11127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undschulporta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rcRect l="0" t="0" r="0" b="30196"/>
          <a:stretch/>
        </p:blipFill>
        <p:spPr>
          <a:xfrm>
            <a:off x="1908000" y="2997360"/>
            <a:ext cx="5399280" cy="309384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örderschulporta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35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0" t="0" r="0" b="25340"/>
          <a:stretch/>
        </p:blipFill>
        <p:spPr>
          <a:xfrm>
            <a:off x="1908000" y="2997360"/>
            <a:ext cx="5399280" cy="287964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430200" y="1628640"/>
            <a:ext cx="8605800" cy="11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1898640" cy="22795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-LAN HOT SPO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Haben Sie ein W-LAN-fähiges Gerät mit?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Gehen Sie hier online!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ie IP-Adresse wird automatisch vergeben. 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xy-Einstellungen: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proxy.edv.lsbh.de 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Unterstützung erhalten Sie im Tagungsbüro.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achberater/innen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r Staatlichen Schulämte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http://grundschule.bildung.hessen.de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Ansprechpartner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0" t="0" r="0" b="21000"/>
          <a:stretch/>
        </p:blipFill>
        <p:spPr>
          <a:xfrm>
            <a:off x="1835280" y="2852640"/>
            <a:ext cx="5225760" cy="309564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971640" y="2492280"/>
            <a:ext cx="57456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ufgaben der Fachberater/inn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Organisation von regionalen und 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schulinternen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Veranstaltungen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Organisation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regionaler Treffen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der Medienbeauftragten zwecks Austausch 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 der Region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Mitarbeit in der überregionalen Gruppe 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r Fachberater/innen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ufgaben der Fachberater/inn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Mithilfe bei der Erstellung eines schulinternen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Medienkonzept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Zusammenstellen von Medienkonzepten der Grundschulen in der Region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Beratung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in Ausstattung und Software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  <a:ea typeface="Times New Roman"/>
              </a:rPr>
              <a:t>Kennen Sie Ihre/n </a:t>
            </a:r>
            <a:br>
              <a:rPr sz="4200"/>
            </a:br>
            <a:r>
              <a:rPr b="1" lang="en-US" sz="4200" spc="-1" strike="noStrike">
                <a:solidFill>
                  <a:srgbClr val="333399"/>
                </a:solidFill>
                <a:latin typeface="Arial"/>
                <a:ea typeface="Times New Roman"/>
              </a:rPr>
              <a:t>Fachberater/in?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Nehmen Sie Kontakt auf: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Bergstraße / Odenwald</a:t>
            </a:r>
            <a:br>
              <a:rPr sz="2000"/>
            </a:b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rau Beysieg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armstadt-Dieburg / Darmstadt </a:t>
            </a:r>
            <a:br>
              <a:rPr sz="2000"/>
            </a:b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Herr Bauer, Herr Böhl, Herr Node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Frankfurt </a:t>
            </a:r>
            <a:br>
              <a:rPr sz="2000"/>
            </a:b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rau Blindow-Klinghammer, Frau Kellermann-Gall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Fulda </a:t>
            </a:r>
            <a:br>
              <a:rPr sz="2000"/>
            </a:b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Herr Hansch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Groß-Gerau / Main-Taunus</a:t>
            </a:r>
            <a:br>
              <a:rPr sz="2000"/>
            </a:b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rau Becker, Herr Howind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Nehmen Sie Kontakt auf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Gießen / Vogelsber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rau Berger, Frau Wagn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Hersfeld-Rotenburg / Werra-Meißner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Herr Jacek, Herr Rudolph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Hochtaunus / Wetterau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Herr Montag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Kassel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Herr Gerland, Herr Kessemei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Lahn-Dill / Limburg-Weilburg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rau Rau, Herr Boguth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Nehmen Sie Kontakt auf: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Main-Kinzig-Krei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rau Klotz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Landkreis Marburg-Biedenkopf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Herr Grewe, Frau Heck-Schneider, Herr Hutzler, Frau Staub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Offenbach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Herr Dittrich, Frau Rus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Rheingau-Taunus / Wiesbaden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Herr Friem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Schwalm-Eder / Waldeck-Frankenberg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Herr Schmidt-Bierman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15328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Bitte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während der Vorträge sowie der Workshop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as Handy ausschalten!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anke </a:t>
            </a:r>
            <a:r>
              <a:rPr b="0" lang="en-US" sz="26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516720" y="2781360"/>
          <a:ext cx="160956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781360"/>
                    <a:ext cx="160956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6443640" y="2997360"/>
            <a:ext cx="1944720" cy="208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588000" y="2852640"/>
            <a:ext cx="1152720" cy="244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agungsprogramm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16360" y="1773360"/>
            <a:ext cx="374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grammheft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erhalten Sie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m Tagungsbüro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03680" y="2835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2862360" cy="40323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ageplan </a:t>
            </a:r>
            <a:br>
              <a:rPr sz="36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den Sie auf der Rückseite Ihres Programmheft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4896000" cy="36673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22:24:41Z</dcterms:created>
  <dc:creator>Dorothea Noll</dc:creator>
  <dc:description/>
  <dc:language>en-US</dc:language>
  <cp:lastModifiedBy>dcctd</cp:lastModifiedBy>
  <dcterms:modified xsi:type="dcterms:W3CDTF">2005-06-20T00:19:39Z</dcterms:modified>
  <cp:revision>99</cp:revision>
  <dc:subject/>
  <dc:title>MedienBildungsMesse  für Grund- und Förderschulen</dc:title>
</cp:coreProperties>
</file>